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6.jpeg" ContentType="image/jpeg"/>
  <Override PartName="/ppt/media/image18.png" ContentType="image/png"/>
  <Override PartName="/ppt/media/image60.png" ContentType="image/png"/>
  <Override PartName="/ppt/media/image50.png" ContentType="image/png"/>
  <Override PartName="/ppt/media/image30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47.png" ContentType="image/png"/>
  <Override PartName="/ppt/media/image14.jpeg" ContentType="image/jpeg"/>
  <Override PartName="/ppt/media/image54.png" ContentType="image/png"/>
  <Override PartName="/ppt/media/image25.png" ContentType="image/png"/>
  <Override PartName="/ppt/media/image62.png" ContentType="image/png"/>
  <Override PartName="/ppt/media/image27.png" ContentType="image/png"/>
  <Override PartName="/ppt/media/image40.png" ContentType="image/png"/>
  <Override PartName="/ppt/media/image11.jpeg" ContentType="image/jpeg"/>
  <Override PartName="/ppt/media/image24.png" ContentType="image/png"/>
  <Override PartName="/ppt/media/image63.jpeg" ContentType="image/jpeg"/>
  <Override PartName="/ppt/media/image29.png" ContentType="image/png"/>
  <Override PartName="/ppt/media/image17.png" ContentType="image/png"/>
  <Override PartName="/ppt/media/image5.jpeg" ContentType="image/jpeg"/>
  <Override PartName="/ppt/media/image61.png" ContentType="image/png"/>
  <Override PartName="/ppt/media/image19.png" ContentType="image/png"/>
  <Override PartName="/ppt/media/image59.png" ContentType="image/png"/>
  <Override PartName="/ppt/media/image22.png" ContentType="image/png"/>
  <Override PartName="/ppt/media/image23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16.png" ContentType="image/png"/>
  <Override PartName="/ppt/media/image7.jpeg" ContentType="image/jpeg"/>
  <Override PartName="/ppt/media/image28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10.jpeg" ContentType="image/jpeg"/>
  <Override PartName="/ppt/media/image26.png" ContentType="image/png"/>
  <Override PartName="/ppt/media/image8.jpeg" ContentType="image/jpeg"/>
  <Override PartName="/ppt/media/image38.png" ContentType="image/png"/>
  <Override PartName="/ppt/media/image48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35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39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4.jpeg" ContentType="image/jpeg"/>
  <Override PartName="/ppt/media/image5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-598680" y="-360"/>
            <a:ext cx="47955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move the slide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dt" idx="14"/>
          </p:nvPr>
        </p:nvSpPr>
        <p:spPr>
          <a:xfrm>
            <a:off x="428004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16"/>
          </p:nvPr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BA9B8-A241-42E8-B4E7-C9FCDB13EF1B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2C6B8-EE06-47F5-9F8D-28A97F48C869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D3A6C-32C1-4C04-8ECF-B3BEB5665FD2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0E54A-4469-454E-942F-983CF9F25805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64C54-1344-4550-B09A-600E3BDA15F2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08B93-8793-455A-8F0F-C223F979432A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518E3-0690-40D6-BDEC-D2A05B94213D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49B8C-1B81-446C-A746-14F1167285F2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C06BE-C617-440D-95DD-B06766604964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1330C-0AD0-4631-963C-EC21F1995E10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BB257-AEC7-4C13-83D4-155472A8FE22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45B67-47CB-4871-AFBA-A5719F438AC0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04C14-9B2A-4E71-8DF1-3B7C897E627E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8F4A5-4D68-4E00-86DD-D680CCCF15E4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68545-2A65-4AC7-8646-D967AB5CDDF8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0A79A-23BE-4D36-8C5B-31AF1F4A5CA1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033DD-DA38-4D52-B6B1-179D4CC66D2E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65B0F-4E01-4E9D-9C89-80447884D811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847B7-5114-41B7-8E46-9E305B14FEDD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956E4-D76D-41D8-A99C-87D42B010468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D93F8-8CBA-424F-97B8-3AD78EBE4DF0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2DEC2-736F-4BCB-ADAE-7A054A496EF7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C1FDD-D048-4DBD-8D37-E0B1B09D701B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A9E74-4B75-41D8-BF23-F572648CA2AA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D5683-4270-4F50-91ED-5170DD740AC0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61282-C30E-433D-B8DE-FF075F329C1B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84BD4-63BB-4E66-BAFF-F70D8BA9DAC2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7F89E-AEC3-415B-9567-6D83B5325813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A9F39-FD42-413D-9632-7D1E43AD53D9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08930-EA10-4252-BECE-B70EF6326893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00BDA-44DE-487D-A7B9-6E434B8A5939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DA2D9-5D70-48D9-8C15-063665267674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80DF6-66E8-4BCD-942F-32097E2EA0FE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2738F-9684-4ACF-888F-39B685CD8465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A3AE0-117F-4838-8BDE-D05C9DE6B71C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DC5BD-D789-4E1C-8DE2-0161B8E472A1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C94D4-EEFA-4BBA-9F4C-3F15E3156243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C66C2-4756-4A96-85EE-DA57EC37A0F7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230D4-C95D-4E91-9268-7BCCD3B6A1A9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8CA36-858C-4D81-8333-7FD89F0D12D4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AEA13-6969-448D-9943-42CCF12D008D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382FF-1092-4856-9247-65BEBA7F216C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BD2FE-DEB8-4B2A-8F2D-C019EC95E719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1E0F4-02B0-4302-9954-3F680A9C4465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264AC-3985-46C6-8796-DD188C66EB8A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BD7CC-31AB-4EBB-BD86-C5EB28BFCB03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5AED3-D7AC-4F9A-864C-3B330233044B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7A31A-D302-4092-92E6-EC4CFB1EAAF3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4E10E-0FE8-4214-A651-FE996F8524FE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0C989-1D61-4876-B22E-756130BD7780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F3A6D-7356-48BA-A7EA-E17597BB421D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0973F-7791-42BF-92B2-15E1E5EE7FF2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24AE7-0D71-4850-A4ED-666AFFF8683E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22DC6-609D-48D5-9400-B670EEC01DC4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09394-7BFC-407A-95BF-411F38BD4150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1A815-9FDE-4841-9430-60A94CB6284C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087A4-9433-476B-B785-47E926A2945C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BAAA4-EA8A-4680-80B5-B66DA2AAB6A4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9431C-983B-4AC3-A478-4CCFDBB5C9D0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FAB25-637E-49C0-8E34-12C6B1F58136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ABAC8-4814-4EAC-91EC-1BB9F42AD6FF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5560" cy="359892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B8543-651A-45C0-9256-626F4F400862}" type="slidenum">
              <a:rPr b="0" lang="en-GB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3B66F-E5C2-4586-B56B-AD812BB2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928188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480" y="4283640"/>
            <a:ext cx="928188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F9E86-C603-4DB9-875B-F064399A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20480" y="42836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76800" y="42836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3B8C6-C0CD-490C-9603-71F359B4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58600" y="13442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96720" y="13442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20480" y="42836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58600" y="42836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96720" y="42836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4E13E-2DAC-4118-A387-AA58D036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36320" y="252000"/>
            <a:ext cx="9286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20480" y="42836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7DF3A-44D0-4286-9376-0339E180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176800" y="42836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0480" y="4283640"/>
            <a:ext cx="928188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928188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0480" y="4283640"/>
            <a:ext cx="928188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20480" y="42836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176800" y="42836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58600" y="13442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696720" y="13442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20480" y="42836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558600" y="42836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696720" y="42836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55A3-FBB5-4E10-A96E-45B52C20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6F19-78D2-46B4-847B-09328399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A823-EE81-4E35-A487-1E3D357D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CA47-F759-438C-806A-85525AA9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637A-0E03-4133-9CFB-15181460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D11A9-3585-4FF3-8AF4-AF400DDE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36320" y="252000"/>
            <a:ext cx="9286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01C2-F60B-48DD-986E-37550D83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0480" y="42836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4EE3-FE97-429C-8616-941008F7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176800" y="42836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8FAB-9918-4829-8A8E-C39ECB8B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20480" y="4283640"/>
            <a:ext cx="928188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3399-281E-4914-8C01-CB059506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928188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0480" y="4283640"/>
            <a:ext cx="928188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9B38-21B4-4486-8288-652D2099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0480" y="42836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176800" y="42836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1CD3-4E4E-4571-BA9E-1F4D68CA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58600" y="13442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696720" y="13442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20480" y="42836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58600" y="42836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696720" y="42836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4911-36F1-43DA-8235-ABD587C6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6AB80-82EF-493C-BCAF-CC41846A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E5151-A8F3-4A19-8A60-33A83E6D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EE9F8-F383-4E9D-BEFC-D2290E91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544F7-D5DC-4215-AAB0-7ED6EA15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90F1D-FFA0-4315-9D9F-38C4343F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E4A01-0304-457F-B249-88384549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36320" y="252000"/>
            <a:ext cx="9286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8D88B-06C2-484A-9646-3C70BDD9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20480" y="42836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2F35A-B097-4BFC-B569-5247A8E2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76800" y="42836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F3C3F-028C-4A82-8B48-53B93265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0480" y="4283640"/>
            <a:ext cx="928188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6F926-A2A7-4317-9542-1D8D3C18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928188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0480" y="4283640"/>
            <a:ext cx="928188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58A2D-B150-46E3-B93C-B51E34BA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20480" y="42836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76800" y="42836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20ED4-502F-48F4-AB2D-9F3DA0C8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58600" y="13442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96720" y="13442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20480" y="42836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58600" y="42836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696720" y="42836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0AC5A-F52A-4755-8C1F-B4C3A39A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DFE77-879E-4205-B159-7CB01D20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67558-8CFB-4E71-BB15-52378CF6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16AB3-FA5D-40C4-8ECD-26BC8B70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5FBB4-A8B5-419D-BF26-4460937F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4176D-66F4-486B-B0BA-A4DCA652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ADE73-A7A3-4D87-8C42-4FF46051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36320" y="252000"/>
            <a:ext cx="9286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651BA-19CB-48D0-87C6-E3DA3903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0480" y="42836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3A84E-8E5F-41E5-9A34-E641DEA0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176800" y="42836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FDB5C-989D-4C3E-B209-3BDFCCCF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20480" y="4283640"/>
            <a:ext cx="928188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F136C-6FF3-44B3-BC65-CE11E091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928188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20480" y="4283640"/>
            <a:ext cx="928188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B5E70-B5BB-4755-89B1-972BCC44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20480" y="42836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176800" y="42836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4E2F9-F0AD-4D6F-9401-968B3A51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36320" y="252000"/>
            <a:ext cx="9286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5EC9E-F57C-4315-AE7F-1994B279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558600" y="13442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696720" y="13442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20480" y="42836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558600" y="42836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696720" y="4283640"/>
            <a:ext cx="298836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EE431-94F9-4676-BE67-953B076E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0480" y="42836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62EA3-B7B6-45D0-AF17-BCE252B2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76800" y="42836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CE1B5-FA77-4B50-9F22-4CE44865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048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76800" y="1344240"/>
            <a:ext cx="452952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0480" y="4283640"/>
            <a:ext cx="9281880" cy="26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243F5-C3FF-4F49-AEF8-D9B2B0FE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13.pn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994440"/>
            <a:ext cx="10080720" cy="56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10080720" cy="1008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-14400" y="378000"/>
            <a:ext cx="6650280" cy="74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2" marL="1260360" indent="-25236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3" marL="1763640" indent="-25236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4" marL="2268360" indent="-25236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5" marL="2268360" indent="-252360">
              <a:spcBef>
                <a:spcPts val="774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6" marL="2268360" indent="-252360">
              <a:spcBef>
                <a:spcPts val="774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911160" y="7289640"/>
            <a:ext cx="8020080" cy="27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0" y="7272000"/>
            <a:ext cx="923760" cy="289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C53EAC-A665-4DA2-BDD0-459074006DDF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3"/>
          </p:nvPr>
        </p:nvSpPr>
        <p:spPr>
          <a:xfrm>
            <a:off x="911160" y="7270920"/>
            <a:ext cx="2100240" cy="288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8" name="Picture 10" descr="s_01"/>
          <p:cNvPicPr/>
          <p:nvPr/>
        </p:nvPicPr>
        <p:blipFill>
          <a:blip r:embed="rId2"/>
          <a:stretch/>
        </p:blipFill>
        <p:spPr>
          <a:xfrm>
            <a:off x="7392960" y="762120"/>
            <a:ext cx="555480" cy="5270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s_02"/>
          <p:cNvPicPr/>
          <p:nvPr/>
        </p:nvPicPr>
        <p:blipFill>
          <a:blip r:embed="rId3"/>
          <a:stretch/>
        </p:blipFill>
        <p:spPr>
          <a:xfrm>
            <a:off x="8064360" y="762120"/>
            <a:ext cx="557280" cy="5270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2" descr="s_03"/>
          <p:cNvPicPr/>
          <p:nvPr/>
        </p:nvPicPr>
        <p:blipFill>
          <a:blip r:embed="rId4"/>
          <a:stretch/>
        </p:blipFill>
        <p:spPr>
          <a:xfrm>
            <a:off x="8736120" y="762120"/>
            <a:ext cx="557280" cy="5270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3" descr="s_04"/>
          <p:cNvPicPr/>
          <p:nvPr/>
        </p:nvPicPr>
        <p:blipFill>
          <a:blip r:embed="rId5"/>
          <a:stretch/>
        </p:blipFill>
        <p:spPr>
          <a:xfrm>
            <a:off x="9408960" y="762120"/>
            <a:ext cx="555840" cy="52704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" descr="T:\_old\logo\logo3-black.jpg"/>
          <p:cNvPicPr/>
          <p:nvPr/>
        </p:nvPicPr>
        <p:blipFill>
          <a:blip r:embed="rId6"/>
          <a:stretch/>
        </p:blipFill>
        <p:spPr>
          <a:xfrm>
            <a:off x="9043920" y="6994440"/>
            <a:ext cx="1036800" cy="56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6994440"/>
            <a:ext cx="10080720" cy="56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10080720" cy="1008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-14400" y="378000"/>
            <a:ext cx="6650280" cy="74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52" name="Picture 10" descr="s_01"/>
          <p:cNvPicPr/>
          <p:nvPr/>
        </p:nvPicPr>
        <p:blipFill>
          <a:blip r:embed="rId2"/>
          <a:stretch/>
        </p:blipFill>
        <p:spPr>
          <a:xfrm>
            <a:off x="7392960" y="762120"/>
            <a:ext cx="555480" cy="527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s_02"/>
          <p:cNvPicPr/>
          <p:nvPr/>
        </p:nvPicPr>
        <p:blipFill>
          <a:blip r:embed="rId3"/>
          <a:stretch/>
        </p:blipFill>
        <p:spPr>
          <a:xfrm>
            <a:off x="8064360" y="762120"/>
            <a:ext cx="557280" cy="52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s_03"/>
          <p:cNvPicPr/>
          <p:nvPr/>
        </p:nvPicPr>
        <p:blipFill>
          <a:blip r:embed="rId4"/>
          <a:stretch/>
        </p:blipFill>
        <p:spPr>
          <a:xfrm>
            <a:off x="8736120" y="762120"/>
            <a:ext cx="557280" cy="52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s_04"/>
          <p:cNvPicPr/>
          <p:nvPr/>
        </p:nvPicPr>
        <p:blipFill>
          <a:blip r:embed="rId5"/>
          <a:stretch/>
        </p:blipFill>
        <p:spPr>
          <a:xfrm>
            <a:off x="9408960" y="762120"/>
            <a:ext cx="555840" cy="52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T:\_old\logo\logo3-black.jpg"/>
          <p:cNvPicPr/>
          <p:nvPr/>
        </p:nvPicPr>
        <p:blipFill>
          <a:blip r:embed="rId6"/>
          <a:stretch/>
        </p:blipFill>
        <p:spPr>
          <a:xfrm>
            <a:off x="9043920" y="6994440"/>
            <a:ext cx="1036800" cy="565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4043520" y="4619520"/>
            <a:ext cx="2046240" cy="14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011320" y="3260880"/>
            <a:ext cx="2021040" cy="13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4629240"/>
            <a:ext cx="2016000" cy="1396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3260880"/>
            <a:ext cx="2016000" cy="13683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4624560"/>
            <a:ext cx="2016000" cy="139824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2016000" y="4619520"/>
            <a:ext cx="2027520" cy="140328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4032360" y="3260880"/>
            <a:ext cx="2057400" cy="1369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8105760" y="3270240"/>
            <a:ext cx="1974960" cy="1379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8109000" y="4637160"/>
            <a:ext cx="1971720" cy="138420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6089760" y="3260880"/>
            <a:ext cx="2022480" cy="2760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6089760" y="3265560"/>
            <a:ext cx="2022480" cy="276048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8112240" y="3262320"/>
            <a:ext cx="1968480" cy="137808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69" name="Picture 16" descr=""/>
          <p:cNvPicPr/>
          <p:nvPr/>
        </p:nvPicPr>
        <p:blipFill>
          <a:blip r:embed="rId14"/>
          <a:stretch/>
        </p:blipFill>
        <p:spPr>
          <a:xfrm>
            <a:off x="4087800" y="4653000"/>
            <a:ext cx="1905120" cy="137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logo3-white"/>
          <p:cNvPicPr/>
          <p:nvPr/>
        </p:nvPicPr>
        <p:blipFill>
          <a:blip r:embed="rId15"/>
          <a:stretch/>
        </p:blipFill>
        <p:spPr>
          <a:xfrm>
            <a:off x="2022480" y="3382920"/>
            <a:ext cx="1986120" cy="10810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9"/>
          <p:cNvSpPr/>
          <p:nvPr/>
        </p:nvSpPr>
        <p:spPr>
          <a:xfrm>
            <a:off x="0" y="6019920"/>
            <a:ext cx="10080720" cy="153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2500200" y="6558120"/>
            <a:ext cx="7293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Cambria"/>
              </a:rPr>
              <a:t>SHOW YOUR PROVEN EXCELLENCE WITH A CERTIFICATE ACCORDING TO ISO 17024!</a:t>
            </a:r>
            <a:endParaRPr b="0" lang="en-US" sz="1100" spc="-1" strike="noStrike">
              <a:solidFill>
                <a:srgbClr val="333333"/>
              </a:solidFill>
              <a:latin typeface="DejaVu Sans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Cambria"/>
              </a:rPr>
              <a:t>…</a:t>
            </a:r>
            <a:r>
              <a:rPr b="1" i="1" lang="en-US" sz="1100" spc="-1" strike="noStrike">
                <a:solidFill>
                  <a:srgbClr val="ffffff"/>
                </a:solidFill>
                <a:latin typeface="Cambria"/>
              </a:rPr>
              <a:t>MORE EFFICIENCY WITH “ACTION BASED TRAINING” </a:t>
            </a:r>
            <a:r>
              <a:rPr b="0" i="1" lang="en-US" sz="1100" spc="-1" strike="noStrike">
                <a:solidFill>
                  <a:srgbClr val="ffffff"/>
                </a:solidFill>
                <a:latin typeface="Cambria"/>
              </a:rPr>
              <a:t>®</a:t>
            </a:r>
            <a:endParaRPr b="0" lang="en-US" sz="11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2" marL="1260360" indent="-25236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3" marL="1763640" indent="-25236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4" marL="2268360" indent="-25236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5" marL="2268360" indent="-252360">
              <a:spcBef>
                <a:spcPts val="774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6" marL="2268360" indent="-252360">
              <a:spcBef>
                <a:spcPts val="774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4"/>
          </p:nvPr>
        </p:nvSpPr>
        <p:spPr>
          <a:xfrm>
            <a:off x="112680" y="122040"/>
            <a:ext cx="960768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6994440"/>
            <a:ext cx="10080720" cy="56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10080720" cy="1008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14" name="Freeform 4"/>
          <p:cNvSpPr/>
          <p:nvPr/>
        </p:nvSpPr>
        <p:spPr>
          <a:xfrm>
            <a:off x="-14400" y="378000"/>
            <a:ext cx="6650280" cy="74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115" name="Picture 10" descr="s_01"/>
          <p:cNvPicPr/>
          <p:nvPr/>
        </p:nvPicPr>
        <p:blipFill>
          <a:blip r:embed="rId2"/>
          <a:stretch/>
        </p:blipFill>
        <p:spPr>
          <a:xfrm>
            <a:off x="7392960" y="762120"/>
            <a:ext cx="555480" cy="527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s_02"/>
          <p:cNvPicPr/>
          <p:nvPr/>
        </p:nvPicPr>
        <p:blipFill>
          <a:blip r:embed="rId3"/>
          <a:stretch/>
        </p:blipFill>
        <p:spPr>
          <a:xfrm>
            <a:off x="8064360" y="762120"/>
            <a:ext cx="557280" cy="527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s_03"/>
          <p:cNvPicPr/>
          <p:nvPr/>
        </p:nvPicPr>
        <p:blipFill>
          <a:blip r:embed="rId4"/>
          <a:stretch/>
        </p:blipFill>
        <p:spPr>
          <a:xfrm>
            <a:off x="8736120" y="762120"/>
            <a:ext cx="557280" cy="527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s_04"/>
          <p:cNvPicPr/>
          <p:nvPr/>
        </p:nvPicPr>
        <p:blipFill>
          <a:blip r:embed="rId5"/>
          <a:stretch/>
        </p:blipFill>
        <p:spPr>
          <a:xfrm>
            <a:off x="9408960" y="762120"/>
            <a:ext cx="555840" cy="527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T:\_old\logo\logo3-black.jpg"/>
          <p:cNvPicPr/>
          <p:nvPr/>
        </p:nvPicPr>
        <p:blipFill>
          <a:blip r:embed="rId6"/>
          <a:stretch/>
        </p:blipFill>
        <p:spPr>
          <a:xfrm>
            <a:off x="9043920" y="6994440"/>
            <a:ext cx="1036800" cy="565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2" marL="1260360" indent="-25236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3" marL="1763640" indent="-25236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4" marL="2268360" indent="-25236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5" marL="2268360" indent="-252360">
              <a:spcBef>
                <a:spcPts val="774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6" marL="2268360" indent="-252360">
              <a:spcBef>
                <a:spcPts val="774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5"/>
          </p:nvPr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6"/>
          </p:nvPr>
        </p:nvSpPr>
        <p:spPr>
          <a:xfrm>
            <a:off x="0" y="7279920"/>
            <a:ext cx="923760" cy="289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67C125-9D04-46B7-B977-A3D139D3A5E9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dt" idx="7"/>
          </p:nvPr>
        </p:nvSpPr>
        <p:spPr>
          <a:xfrm>
            <a:off x="911160" y="7270920"/>
            <a:ext cx="2100240" cy="288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6994440"/>
            <a:ext cx="10080720" cy="56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0" y="0"/>
            <a:ext cx="10080720" cy="1008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63" name="Freeform 4"/>
          <p:cNvSpPr/>
          <p:nvPr/>
        </p:nvSpPr>
        <p:spPr>
          <a:xfrm>
            <a:off x="-14400" y="378000"/>
            <a:ext cx="6650280" cy="74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164" name="Picture 10" descr="s_01"/>
          <p:cNvPicPr/>
          <p:nvPr/>
        </p:nvPicPr>
        <p:blipFill>
          <a:blip r:embed="rId2"/>
          <a:stretch/>
        </p:blipFill>
        <p:spPr>
          <a:xfrm>
            <a:off x="7392960" y="762120"/>
            <a:ext cx="555480" cy="52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s_02"/>
          <p:cNvPicPr/>
          <p:nvPr/>
        </p:nvPicPr>
        <p:blipFill>
          <a:blip r:embed="rId3"/>
          <a:stretch/>
        </p:blipFill>
        <p:spPr>
          <a:xfrm>
            <a:off x="8064360" y="762120"/>
            <a:ext cx="557280" cy="527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s_03"/>
          <p:cNvPicPr/>
          <p:nvPr/>
        </p:nvPicPr>
        <p:blipFill>
          <a:blip r:embed="rId4"/>
          <a:stretch/>
        </p:blipFill>
        <p:spPr>
          <a:xfrm>
            <a:off x="8736120" y="762120"/>
            <a:ext cx="557280" cy="527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s_04"/>
          <p:cNvPicPr/>
          <p:nvPr/>
        </p:nvPicPr>
        <p:blipFill>
          <a:blip r:embed="rId5"/>
          <a:stretch/>
        </p:blipFill>
        <p:spPr>
          <a:xfrm>
            <a:off x="9408960" y="762120"/>
            <a:ext cx="555840" cy="527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T:\_old\logo\logo3-black.jpg"/>
          <p:cNvPicPr/>
          <p:nvPr/>
        </p:nvPicPr>
        <p:blipFill>
          <a:blip r:embed="rId6"/>
          <a:stretch/>
        </p:blipFill>
        <p:spPr>
          <a:xfrm>
            <a:off x="9043920" y="6994440"/>
            <a:ext cx="1036800" cy="565200"/>
          </a:xfrm>
          <a:prstGeom prst="rect">
            <a:avLst/>
          </a:prstGeom>
          <a:ln w="0">
            <a:noFill/>
          </a:ln>
        </p:spPr>
      </p:pic>
      <p:sp>
        <p:nvSpPr>
          <p:cNvPr id="169" name="Titel 1"/>
          <p:cNvSpPr/>
          <p:nvPr/>
        </p:nvSpPr>
        <p:spPr>
          <a:xfrm>
            <a:off x="436680" y="25236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mbria"/>
              </a:rPr>
              <a:t>Titelmasterformat durch Klicken bearbeiten</a:t>
            </a:r>
            <a:endParaRPr b="0" lang="en-US" sz="26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2" marL="1260360" indent="-25236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3" marL="1763640" indent="-25236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4" marL="2268360" indent="-25236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5" marL="2268360" indent="-252360">
              <a:spcBef>
                <a:spcPts val="774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6" marL="2268360" indent="-252360">
              <a:spcBef>
                <a:spcPts val="774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8"/>
          </p:nvPr>
        </p:nvSpPr>
        <p:spPr>
          <a:xfrm>
            <a:off x="911160" y="7289640"/>
            <a:ext cx="8020080" cy="27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9"/>
          </p:nvPr>
        </p:nvSpPr>
        <p:spPr>
          <a:xfrm>
            <a:off x="0" y="7272000"/>
            <a:ext cx="923760" cy="289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8D8CD4-6E7A-4658-8677-D513E9C2A2EF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0"/>
          </p:nvPr>
        </p:nvSpPr>
        <p:spPr>
          <a:xfrm>
            <a:off x="911160" y="7270920"/>
            <a:ext cx="2100240" cy="288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6994440"/>
            <a:ext cx="10080720" cy="56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0"/>
            <a:ext cx="10080720" cy="1008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213" name="Freeform 4"/>
          <p:cNvSpPr/>
          <p:nvPr/>
        </p:nvSpPr>
        <p:spPr>
          <a:xfrm>
            <a:off x="-14400" y="378000"/>
            <a:ext cx="6650280" cy="74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214" name="Picture 10" descr="s_01"/>
          <p:cNvPicPr/>
          <p:nvPr/>
        </p:nvPicPr>
        <p:blipFill>
          <a:blip r:embed="rId2"/>
          <a:stretch/>
        </p:blipFill>
        <p:spPr>
          <a:xfrm>
            <a:off x="7392960" y="762120"/>
            <a:ext cx="555480" cy="527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s_02"/>
          <p:cNvPicPr/>
          <p:nvPr/>
        </p:nvPicPr>
        <p:blipFill>
          <a:blip r:embed="rId3"/>
          <a:stretch/>
        </p:blipFill>
        <p:spPr>
          <a:xfrm>
            <a:off x="8064360" y="762120"/>
            <a:ext cx="557280" cy="527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s_03"/>
          <p:cNvPicPr/>
          <p:nvPr/>
        </p:nvPicPr>
        <p:blipFill>
          <a:blip r:embed="rId4"/>
          <a:stretch/>
        </p:blipFill>
        <p:spPr>
          <a:xfrm>
            <a:off x="8736120" y="762120"/>
            <a:ext cx="557280" cy="527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s_04"/>
          <p:cNvPicPr/>
          <p:nvPr/>
        </p:nvPicPr>
        <p:blipFill>
          <a:blip r:embed="rId5"/>
          <a:stretch/>
        </p:blipFill>
        <p:spPr>
          <a:xfrm>
            <a:off x="9408960" y="762120"/>
            <a:ext cx="555840" cy="527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T:\_old\logo\logo3-black.jpg"/>
          <p:cNvPicPr/>
          <p:nvPr/>
        </p:nvPicPr>
        <p:blipFill>
          <a:blip r:embed="rId6"/>
          <a:stretch/>
        </p:blipFill>
        <p:spPr>
          <a:xfrm>
            <a:off x="9043920" y="6994440"/>
            <a:ext cx="1036800" cy="565200"/>
          </a:xfrm>
          <a:prstGeom prst="rect">
            <a:avLst/>
          </a:prstGeom>
          <a:ln w="0">
            <a:noFill/>
          </a:ln>
        </p:spPr>
      </p:pic>
      <p:sp>
        <p:nvSpPr>
          <p:cNvPr id="219" name="Titel 1"/>
          <p:cNvSpPr/>
          <p:nvPr/>
        </p:nvSpPr>
        <p:spPr>
          <a:xfrm>
            <a:off x="436680" y="25236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mbria"/>
              </a:rPr>
              <a:t>Titelmasterformat durch Klicken bearbeiten</a:t>
            </a:r>
            <a:endParaRPr b="0" lang="en-US" sz="26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2" marL="1260360" indent="-25236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3" marL="1763640" indent="-25236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4" marL="2268360" indent="-252360">
              <a:spcBef>
                <a:spcPts val="774"/>
              </a:spcBef>
              <a:buClr>
                <a:srgbClr val="25557b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5" marL="2268360" indent="-252360">
              <a:spcBef>
                <a:spcPts val="774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6" marL="2268360" indent="-252360">
              <a:spcBef>
                <a:spcPts val="774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1"/>
          </p:nvPr>
        </p:nvSpPr>
        <p:spPr>
          <a:xfrm>
            <a:off x="911160" y="7289640"/>
            <a:ext cx="8020080" cy="27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2"/>
          </p:nvPr>
        </p:nvSpPr>
        <p:spPr>
          <a:xfrm>
            <a:off x="0" y="7272000"/>
            <a:ext cx="923760" cy="289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67AB90-A10D-499D-A7DB-C42B84154CD8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dt" idx="13"/>
          </p:nvPr>
        </p:nvSpPr>
        <p:spPr>
          <a:xfrm>
            <a:off x="911160" y="7270920"/>
            <a:ext cx="2100240" cy="288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ußzeilenplatzhalter 3"/>
          <p:cNvSpPr/>
          <p:nvPr/>
        </p:nvSpPr>
        <p:spPr>
          <a:xfrm>
            <a:off x="112680" y="122400"/>
            <a:ext cx="96076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13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18800" y="2779200"/>
            <a:ext cx="9590040" cy="365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ébastien Doucet [doucet@iitac.org]</a:t>
            </a:r>
            <a:endParaRPr b="0" lang="en-US" sz="18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118800" y="1279080"/>
            <a:ext cx="959004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100" spc="-1" strike="noStrike">
                <a:solidFill>
                  <a:srgbClr val="333333"/>
                </a:solidFill>
                <a:latin typeface="Cambria"/>
              </a:rPr>
              <a:t>64-bit Imports Rebuilding and Unpacking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Cube 16"/>
          <p:cNvSpPr/>
          <p:nvPr/>
        </p:nvSpPr>
        <p:spPr>
          <a:xfrm>
            <a:off x="3468600" y="4994280"/>
            <a:ext cx="3643560" cy="78588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333333"/>
                </a:solidFill>
                <a:latin typeface="DejaVu Sans"/>
              </a:rPr>
              <a:t>Import Directory</a:t>
            </a:r>
            <a:endParaRPr b="0" lang="en-US" sz="32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37" name="Cube 27"/>
          <p:cNvSpPr/>
          <p:nvPr/>
        </p:nvSpPr>
        <p:spPr>
          <a:xfrm>
            <a:off x="3468600" y="4422600"/>
            <a:ext cx="3643560" cy="785880"/>
          </a:xfrm>
          <a:prstGeom prst="cube">
            <a:avLst>
              <a:gd name="adj" fmla="val 25000"/>
            </a:avLst>
          </a:prstGeom>
          <a:solidFill>
            <a:srgbClr val="7030a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333333"/>
                </a:solidFill>
                <a:latin typeface="DejaVu Sans"/>
              </a:rPr>
              <a:t>Import Directory</a:t>
            </a:r>
            <a:endParaRPr b="0" lang="en-US" sz="32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38" name="Cube 28"/>
          <p:cNvSpPr/>
          <p:nvPr/>
        </p:nvSpPr>
        <p:spPr>
          <a:xfrm>
            <a:off x="3468600" y="3851280"/>
            <a:ext cx="3643560" cy="785880"/>
          </a:xfrm>
          <a:prstGeom prst="cube">
            <a:avLst>
              <a:gd name="adj" fmla="val 25000"/>
            </a:avLst>
          </a:prstGeom>
          <a:solidFill>
            <a:srgbClr val="7030a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333333"/>
                </a:solidFill>
                <a:latin typeface="DejaVu Sans"/>
              </a:rPr>
              <a:t>Unpacker IAT</a:t>
            </a:r>
            <a:endParaRPr b="0" lang="en-US" sz="32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39" name="Cube 29"/>
          <p:cNvSpPr/>
          <p:nvPr/>
        </p:nvSpPr>
        <p:spPr>
          <a:xfrm>
            <a:off x="3468600" y="3279600"/>
            <a:ext cx="3643560" cy="785880"/>
          </a:xfrm>
          <a:prstGeom prst="cube">
            <a:avLst>
              <a:gd name="adj" fmla="val 25000"/>
            </a:avLst>
          </a:prstGeom>
          <a:solidFill>
            <a:srgbClr val="7030a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333333"/>
                </a:solidFill>
                <a:latin typeface="DejaVu Sans"/>
              </a:rPr>
              <a:t>Unpacker Stub</a:t>
            </a:r>
            <a:endParaRPr b="0" lang="en-US" sz="32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40" name="Cube 10"/>
          <p:cNvSpPr/>
          <p:nvPr/>
        </p:nvSpPr>
        <p:spPr>
          <a:xfrm>
            <a:off x="3468600" y="2708280"/>
            <a:ext cx="3643560" cy="7858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333333"/>
                </a:solidFill>
                <a:latin typeface="DejaVu Sans"/>
              </a:rPr>
              <a:t>Import Directory</a:t>
            </a:r>
            <a:endParaRPr b="0" lang="en-US" sz="32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General unpacking theory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20480" y="6137280"/>
            <a:ext cx="9281880" cy="83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428099-89C2-49EA-A3BF-1C0F8E9B1F10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45" name="Content Placeholder 2"/>
          <p:cNvSpPr/>
          <p:nvPr/>
        </p:nvSpPr>
        <p:spPr>
          <a:xfrm>
            <a:off x="420840" y="1932120"/>
            <a:ext cx="9281880" cy="56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46" name="Cube 12"/>
          <p:cNvSpPr/>
          <p:nvPr/>
        </p:nvSpPr>
        <p:spPr>
          <a:xfrm>
            <a:off x="3468600" y="2136600"/>
            <a:ext cx="3643560" cy="78588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333333"/>
                </a:solidFill>
                <a:latin typeface="DejaVu Sans"/>
              </a:rPr>
              <a:t>IAT</a:t>
            </a:r>
            <a:endParaRPr b="0" lang="en-US" sz="32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47" name="Cube 8"/>
          <p:cNvSpPr/>
          <p:nvPr/>
        </p:nvSpPr>
        <p:spPr>
          <a:xfrm>
            <a:off x="3468600" y="1565280"/>
            <a:ext cx="3643560" cy="785880"/>
          </a:xfrm>
          <a:prstGeom prst="cube">
            <a:avLst>
              <a:gd name="adj" fmla="val 25000"/>
            </a:avLst>
          </a:prstGeom>
          <a:solidFill>
            <a:srgbClr val="e4c244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333333"/>
                </a:solidFill>
                <a:latin typeface="DejaVu Sans"/>
              </a:rPr>
              <a:t>Program</a:t>
            </a:r>
            <a:endParaRPr b="0" lang="en-US" sz="32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48" name="Curved Left Arrow 30"/>
          <p:cNvSpPr/>
          <p:nvPr/>
        </p:nvSpPr>
        <p:spPr>
          <a:xfrm flipH="1" rot="10800000">
            <a:off x="7183440" y="4065480"/>
            <a:ext cx="928800" cy="928800"/>
          </a:xfrm>
          <a:custGeom>
            <a:avLst/>
            <a:gdLst>
              <a:gd name="textAreaLeft" fmla="*/ 124200 w 928800"/>
              <a:gd name="textAreaRight" fmla="*/ 804600 w 928800"/>
              <a:gd name="textAreaTop" fmla="*/ 145080 h 928800"/>
              <a:gd name="textAreaBottom" fmla="*/ 6678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026114"/>
                <a:lnTo>
                  <a:pt x="5400" y="21386"/>
                </a:lnTo>
                <a:lnTo>
                  <a:pt x="0" y="16200"/>
                </a:lnTo>
                <a:lnTo>
                  <a:pt x="5400" y="10586"/>
                </a:lnTo>
                <a:lnTo>
                  <a:pt x="5400" y="13286"/>
                </a:lnTo>
                <a:arcTo wR="21600" hR="6750" stAng="3026114" swAng="-2560128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00b8f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49" name="Curved Left Arrow 31"/>
          <p:cNvSpPr/>
          <p:nvPr/>
        </p:nvSpPr>
        <p:spPr>
          <a:xfrm flipH="1" rot="10800000">
            <a:off x="7183440" y="2350800"/>
            <a:ext cx="928800" cy="1500120"/>
          </a:xfrm>
          <a:custGeom>
            <a:avLst/>
            <a:gdLst>
              <a:gd name="textAreaLeft" fmla="*/ 124200 w 928800"/>
              <a:gd name="textAreaRight" fmla="*/ 804600 w 928800"/>
              <a:gd name="textAreaTop" fmla="*/ 288000 h 1500120"/>
              <a:gd name="textAreaBottom" fmla="*/ 109620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93" stAng="-5400000" swAng="5400000"/>
                <a:lnTo>
                  <a:pt x="21600" y="11635"/>
                </a:lnTo>
                <a:arcTo wR="21600" hR="8293" stAng="0" swAng="3364735"/>
                <a:lnTo>
                  <a:pt x="5400" y="21337"/>
                </a:lnTo>
                <a:lnTo>
                  <a:pt x="0" y="18257"/>
                </a:lnTo>
                <a:lnTo>
                  <a:pt x="5400" y="14651"/>
                </a:lnTo>
                <a:lnTo>
                  <a:pt x="5400" y="16323"/>
                </a:lnTo>
                <a:arcTo wR="21600" hR="8293" stAng="3364735" swAng="-3093780"/>
                <a:lnTo>
                  <a:pt x="21157" y="9964"/>
                </a:lnTo>
                <a:arcTo wR="21600" hR="8293" stAng="-270954" swAng="-5129046"/>
                <a:close/>
              </a:path>
              <a:path fill="darkenLess" w="21600" h="21600">
                <a:moveTo>
                  <a:pt x="0" y="0"/>
                </a:moveTo>
                <a:arcTo wR="21600" hR="8293" stAng="-5400000" swAng="5400000"/>
                <a:lnTo>
                  <a:pt x="21600" y="11635"/>
                </a:lnTo>
                <a:arcTo wR="21600" hR="8293" stAng="0" swAng="-270954"/>
                <a:lnTo>
                  <a:pt x="21157" y="9964"/>
                </a:lnTo>
                <a:arcTo wR="21600" hR="8293" stAng="-270954" swAng="-5129046"/>
                <a:close/>
              </a:path>
            </a:pathLst>
          </a:custGeom>
          <a:solidFill>
            <a:srgbClr val="00b8f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50" name="Right Arrow 32"/>
          <p:cNvSpPr/>
          <p:nvPr/>
        </p:nvSpPr>
        <p:spPr>
          <a:xfrm>
            <a:off x="1774800" y="3422520"/>
            <a:ext cx="1643040" cy="714600"/>
          </a:xfrm>
          <a:prstGeom prst="rightArrow">
            <a:avLst>
              <a:gd name="adj1" fmla="val 46231"/>
              <a:gd name="adj2" fmla="val 49987"/>
            </a:avLst>
          </a:prstGeom>
          <a:solidFill>
            <a:srgbClr val="ff000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1800" spc="-1" strike="noStrike">
                <a:solidFill>
                  <a:srgbClr val="333333"/>
                </a:solidFill>
                <a:latin typeface="DejaVu Sans"/>
              </a:rPr>
              <a:t>Entry Point</a:t>
            </a: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51" name="Curved Left Arrow 17"/>
          <p:cNvSpPr/>
          <p:nvPr/>
        </p:nvSpPr>
        <p:spPr>
          <a:xfrm flipH="1" rot="10800000">
            <a:off x="7183440" y="2350800"/>
            <a:ext cx="928800" cy="3214440"/>
          </a:xfrm>
          <a:custGeom>
            <a:avLst/>
            <a:gdLst>
              <a:gd name="textAreaLeft" fmla="*/ 124200 w 928800"/>
              <a:gd name="textAreaRight" fmla="*/ 804600 w 928800"/>
              <a:gd name="textAreaTop" fmla="*/ 716400 h 3214440"/>
              <a:gd name="textAreaBottom" fmla="*/ 238176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30" stAng="-5400000" swAng="5400000"/>
                <a:lnTo>
                  <a:pt x="21600" y="11190"/>
                </a:lnTo>
                <a:arcTo wR="21600" hR="9630" stAng="0" swAng="3595395"/>
                <a:lnTo>
                  <a:pt x="5400" y="21294"/>
                </a:lnTo>
                <a:lnTo>
                  <a:pt x="0" y="20040"/>
                </a:lnTo>
                <a:lnTo>
                  <a:pt x="5400" y="18174"/>
                </a:lnTo>
                <a:lnTo>
                  <a:pt x="5400" y="18954"/>
                </a:lnTo>
                <a:arcTo wR="21600" hR="9630" stAng="3595395" swAng="-3470899"/>
                <a:lnTo>
                  <a:pt x="21529" y="10410"/>
                </a:lnTo>
                <a:arcTo wR="21600" hR="9630" stAng="-124496" swAng="-5275504"/>
                <a:close/>
              </a:path>
              <a:path fill="darkenLess" w="21600" h="21600">
                <a:moveTo>
                  <a:pt x="0" y="0"/>
                </a:moveTo>
                <a:arcTo wR="21600" hR="9630" stAng="-5400000" swAng="5400000"/>
                <a:lnTo>
                  <a:pt x="21600" y="11190"/>
                </a:lnTo>
                <a:arcTo wR="21600" hR="9630" stAng="0" swAng="-124496"/>
                <a:lnTo>
                  <a:pt x="21529" y="10410"/>
                </a:lnTo>
                <a:arcTo wR="21600" hR="9630" stAng="-124496" swAng="-5275504"/>
                <a:close/>
              </a:path>
            </a:pathLst>
          </a:custGeom>
          <a:solidFill>
            <a:srgbClr val="00b8f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279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7184E-006 -8.40336E-008 L -0.00032 -0.22878 E">
                                      <p:cBhvr>
                                        <p:cTn id="283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Limitations of ImpREC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0480" y="1344600"/>
            <a:ext cx="928188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XP or Vista w/o ASLR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54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55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80C504-0DD7-4426-883F-97CB6218A7A5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356" name="Picture 11" descr="ImpREC 1.6 - WinXP.PNG"/>
          <p:cNvPicPr/>
          <p:nvPr/>
        </p:nvPicPr>
        <p:blipFill>
          <a:blip r:embed="rId1"/>
          <a:stretch/>
        </p:blipFill>
        <p:spPr>
          <a:xfrm>
            <a:off x="2254320" y="1922400"/>
            <a:ext cx="56196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1" dur="1000" fill="hold"/>
                                        <p:tgtEl>
                                          <p:spTgt spid="3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Limitations of ImpREC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20480" y="1344600"/>
            <a:ext cx="928188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Vista ASLR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993E2F-788A-4F0C-8B76-13F3D67CDE8E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361" name="Picture 11" descr="ImpREC 1.6 - WinXP.PNG"/>
          <p:cNvPicPr/>
          <p:nvPr/>
        </p:nvPicPr>
        <p:blipFill>
          <a:blip r:embed="rId1"/>
          <a:stretch/>
        </p:blipFill>
        <p:spPr>
          <a:xfrm>
            <a:off x="2270160" y="1922400"/>
            <a:ext cx="5587920" cy="4552920"/>
          </a:xfrm>
          <a:prstGeom prst="rect">
            <a:avLst/>
          </a:prstGeom>
          <a:ln w="0">
            <a:noFill/>
          </a:ln>
        </p:spPr>
      </p:pic>
      <p:sp>
        <p:nvSpPr>
          <p:cNvPr id="362" name="Left Arrow 6"/>
          <p:cNvSpPr/>
          <p:nvPr/>
        </p:nvSpPr>
        <p:spPr>
          <a:xfrm>
            <a:off x="5326200" y="2208240"/>
            <a:ext cx="1571400" cy="714240"/>
          </a:xfrm>
          <a:prstGeom prst="leftArrow">
            <a:avLst>
              <a:gd name="adj1" fmla="val 50000"/>
              <a:gd name="adj2" fmla="val 50001"/>
            </a:avLst>
          </a:prstGeom>
          <a:solidFill>
            <a:srgbClr val="ffc00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63" name="Left Arrow 7"/>
          <p:cNvSpPr/>
          <p:nvPr/>
        </p:nvSpPr>
        <p:spPr>
          <a:xfrm>
            <a:off x="5326200" y="3208320"/>
            <a:ext cx="1571400" cy="714240"/>
          </a:xfrm>
          <a:prstGeom prst="leftArrow">
            <a:avLst>
              <a:gd name="adj1" fmla="val 50000"/>
              <a:gd name="adj2" fmla="val 50001"/>
            </a:avLst>
          </a:prstGeom>
          <a:solidFill>
            <a:srgbClr val="ffc00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7" dur="1000" fill="hold"/>
                                        <p:tgtEl>
                                          <p:spTgt spid="3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Limitations of ImpREC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0480" y="1344600"/>
            <a:ext cx="928188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Vista ASLR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66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7D93D7-6F45-477E-AFAF-0EA34C592A3B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368" name="Picture 11" descr="ImpREC 1.6 - WinXP.PNG"/>
          <p:cNvPicPr/>
          <p:nvPr/>
        </p:nvPicPr>
        <p:blipFill>
          <a:blip r:embed="rId1"/>
          <a:stretch/>
        </p:blipFill>
        <p:spPr>
          <a:xfrm>
            <a:off x="2270160" y="1927080"/>
            <a:ext cx="5587920" cy="4543560"/>
          </a:xfrm>
          <a:prstGeom prst="rect">
            <a:avLst/>
          </a:prstGeom>
          <a:ln w="0">
            <a:noFill/>
          </a:ln>
        </p:spPr>
      </p:pic>
      <p:sp>
        <p:nvSpPr>
          <p:cNvPr id="369" name="Left Arrow 6"/>
          <p:cNvSpPr/>
          <p:nvPr/>
        </p:nvSpPr>
        <p:spPr>
          <a:xfrm>
            <a:off x="3825720" y="2779560"/>
            <a:ext cx="1571760" cy="500040"/>
          </a:xfrm>
          <a:prstGeom prst="leftArrow">
            <a:avLst>
              <a:gd name="adj1" fmla="val 50000"/>
              <a:gd name="adj2" fmla="val 50001"/>
            </a:avLst>
          </a:prstGeom>
          <a:solidFill>
            <a:srgbClr val="ffc00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1" dur="1000" fill="hold"/>
                                        <p:tgtEl>
                                          <p:spTgt spid="3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Content Placeholder 2"/>
          <p:cNvSpPr/>
          <p:nvPr/>
        </p:nvSpPr>
        <p:spPr>
          <a:xfrm>
            <a:off x="4111560" y="2279520"/>
            <a:ext cx="18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KERNEL32</a:t>
            </a:r>
            <a:endParaRPr b="0" lang="en-US" sz="31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754200" y="2279520"/>
            <a:ext cx="1857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GDI32</a:t>
            </a:r>
            <a:endParaRPr b="0" lang="en-US" sz="31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72" name="Content Placeholder 2"/>
          <p:cNvSpPr/>
          <p:nvPr/>
        </p:nvSpPr>
        <p:spPr>
          <a:xfrm>
            <a:off x="7469280" y="2279520"/>
            <a:ext cx="1857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USER32</a:t>
            </a:r>
            <a:endParaRPr b="0" lang="en-US" sz="31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Limitations of ImpREC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20480" y="1344600"/>
            <a:ext cx="928188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Vista ASLR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A9E0F7-5398-4E6D-B446-8BB602A2BD44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377" name="Picture 7" descr="ASLR - 1.png"/>
          <p:cNvPicPr/>
          <p:nvPr/>
        </p:nvPicPr>
        <p:blipFill>
          <a:blip r:embed="rId1"/>
          <a:stretch/>
        </p:blipFill>
        <p:spPr>
          <a:xfrm>
            <a:off x="0" y="2903400"/>
            <a:ext cx="100807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1" dur="1000" fill="hold"/>
                                        <p:tgtEl>
                                          <p:spTgt spid="37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Limitations of ImpREC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0480" y="1344600"/>
            <a:ext cx="928188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Vista x64 SP1 (WoW64)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80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076C22-2772-49D0-821B-43E6EBA69469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382" name="Picture 11" descr="ImpREC 1.6 - WinXP.PNG"/>
          <p:cNvPicPr/>
          <p:nvPr/>
        </p:nvPicPr>
        <p:blipFill>
          <a:blip r:embed="rId1"/>
          <a:stretch/>
        </p:blipFill>
        <p:spPr>
          <a:xfrm>
            <a:off x="2274840" y="1930320"/>
            <a:ext cx="55785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7" dur="1000" fill="hold"/>
                                        <p:tgtEl>
                                          <p:spTgt spid="3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Limitations of ImpREC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20480" y="1344600"/>
            <a:ext cx="928188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Vista x64 SP1 (WoW64)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85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86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79841D-96BD-4FA9-A9D2-010FE2480559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387" name="Picture 11" descr="ImpREC 1.6 - WinXP.PNG"/>
          <p:cNvPicPr/>
          <p:nvPr/>
        </p:nvPicPr>
        <p:blipFill>
          <a:blip r:embed="rId1"/>
          <a:stretch/>
        </p:blipFill>
        <p:spPr>
          <a:xfrm>
            <a:off x="2274840" y="1935000"/>
            <a:ext cx="557856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3" dur="1000" fill="hold"/>
                                        <p:tgtEl>
                                          <p:spTgt spid="3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Limitations of ImpREC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20480" y="1344600"/>
            <a:ext cx="928188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Vista x64 SP1 (WoW64)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90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91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4C4892-146E-4B73-AABC-FCFA576568B1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392" name="Picture 9" descr="ida - user32 xp - 12.png"/>
          <p:cNvPicPr/>
          <p:nvPr/>
        </p:nvPicPr>
        <p:blipFill>
          <a:blip r:embed="rId1"/>
          <a:stretch/>
        </p:blipFill>
        <p:spPr>
          <a:xfrm>
            <a:off x="473040" y="3527280"/>
            <a:ext cx="9134640" cy="50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ida - user32 xp - 3.PNG"/>
          <p:cNvPicPr/>
          <p:nvPr/>
        </p:nvPicPr>
        <p:blipFill>
          <a:blip r:embed="rId2"/>
          <a:stretch/>
        </p:blipFill>
        <p:spPr>
          <a:xfrm>
            <a:off x="4111560" y="463716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394" name="Content Placeholder 2"/>
          <p:cNvSpPr/>
          <p:nvPr/>
        </p:nvSpPr>
        <p:spPr>
          <a:xfrm>
            <a:off x="396720" y="2779560"/>
            <a:ext cx="9282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Normal Method: XP or Vista</a:t>
            </a:r>
            <a:endParaRPr b="0" lang="en-US" sz="31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9" dur="1000" fill="hold"/>
                                        <p:tgtEl>
                                          <p:spTgt spid="3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9108E-006 -8.40336E-008 L 0.1785 -8.40336E-008 E">
                                      <p:cBhvr>
                                        <p:cTn id="351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Content Placeholder 2"/>
          <p:cNvSpPr/>
          <p:nvPr/>
        </p:nvSpPr>
        <p:spPr>
          <a:xfrm>
            <a:off x="396720" y="2779560"/>
            <a:ext cx="9282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Normal Method: Vista x64</a:t>
            </a:r>
            <a:endParaRPr b="0" lang="en-US" sz="31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Limitations of ImpREC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20480" y="1344600"/>
            <a:ext cx="928188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Vista x64 SP1 (WoW64)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98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F983A0-3D0D-4FFE-B9D5-993082E6C5D7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400" name="Picture 7" descr="cff explorer - user32 - 1.PNG"/>
          <p:cNvPicPr/>
          <p:nvPr/>
        </p:nvPicPr>
        <p:blipFill>
          <a:blip r:embed="rId1"/>
          <a:stretch/>
        </p:blipFill>
        <p:spPr>
          <a:xfrm>
            <a:off x="2397240" y="3565440"/>
            <a:ext cx="5352840" cy="12096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" descr="ida - user32 - 01.png"/>
          <p:cNvPicPr/>
          <p:nvPr/>
        </p:nvPicPr>
        <p:blipFill>
          <a:blip r:embed="rId2"/>
          <a:stretch/>
        </p:blipFill>
        <p:spPr>
          <a:xfrm>
            <a:off x="2325600" y="4851360"/>
            <a:ext cx="53532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1" dur="1000" fill="hold"/>
                                        <p:tgtEl>
                                          <p:spTgt spid="40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500" fill="hold"/>
                                        <p:tgtEl>
                                          <p:spTgt spid="40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2" dur="1000" fill="hold"/>
                                        <p:tgtEl>
                                          <p:spTgt spid="401"/>
                                        </p:tgtEl>
                                      </p:cBhvr>
                                      <p:to x="175000" y="1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Limitations of ImpREC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20480" y="1344600"/>
            <a:ext cx="928188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Vista x64 SP1 (WoW64)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04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A5C5E0-032B-4447-AE30-D54DFEA77C77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96720" y="2494080"/>
            <a:ext cx="9282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Microsoft Drunk-on-the-Job Method: Vista x64 SP1</a:t>
            </a:r>
            <a:endParaRPr b="0" lang="en-US" sz="31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407" name="Picture 8" descr="export viewer - user32 - 1.PNG"/>
          <p:cNvPicPr/>
          <p:nvPr/>
        </p:nvPicPr>
        <p:blipFill>
          <a:blip r:embed="rId1"/>
          <a:stretch/>
        </p:blipFill>
        <p:spPr>
          <a:xfrm>
            <a:off x="2682720" y="3208320"/>
            <a:ext cx="4711680" cy="3438720"/>
          </a:xfrm>
          <a:prstGeom prst="rect">
            <a:avLst/>
          </a:prstGeom>
          <a:ln w="0">
            <a:noFill/>
          </a:ln>
        </p:spPr>
      </p:pic>
      <p:sp>
        <p:nvSpPr>
          <p:cNvPr id="408" name="Left Arrow 7"/>
          <p:cNvSpPr/>
          <p:nvPr/>
        </p:nvSpPr>
        <p:spPr>
          <a:xfrm>
            <a:off x="5754600" y="4208400"/>
            <a:ext cx="1500120" cy="571680"/>
          </a:xfrm>
          <a:prstGeom prst="leftArrow">
            <a:avLst>
              <a:gd name="adj1" fmla="val 50000"/>
              <a:gd name="adj2" fmla="val 49978"/>
            </a:avLst>
          </a:prstGeom>
          <a:solidFill>
            <a:srgbClr val="ffc00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09" name="Left Arrow 9"/>
          <p:cNvSpPr/>
          <p:nvPr/>
        </p:nvSpPr>
        <p:spPr>
          <a:xfrm>
            <a:off x="6183360" y="5637240"/>
            <a:ext cx="1500120" cy="5713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8" dur="1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Who am I?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Trainer and Binary Auditor for IITAC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Moderator at reverse-engineering.net forum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Co-founder of video.reverse-engineering.net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Evil moderator at crackmes.de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Member of ARTeam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73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E3BEDA-39DD-49AE-B6D6-FCEE5160897C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Limitations of ImpREC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20480" y="1344600"/>
            <a:ext cx="928188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Vista x64 SP1 (WoW64)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12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A3C786-C0BD-4658-87A5-78510276E0F9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414" name="Picture 6" descr="ida - user32 - 2.PNG"/>
          <p:cNvPicPr/>
          <p:nvPr/>
        </p:nvPicPr>
        <p:blipFill>
          <a:blip r:embed="rId1"/>
          <a:stretch/>
        </p:blipFill>
        <p:spPr>
          <a:xfrm>
            <a:off x="311040" y="1922400"/>
            <a:ext cx="9458280" cy="2952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ida - user32 - 4.PNG"/>
          <p:cNvPicPr/>
          <p:nvPr/>
        </p:nvPicPr>
        <p:blipFill>
          <a:blip r:embed="rId2"/>
          <a:stretch/>
        </p:blipFill>
        <p:spPr>
          <a:xfrm>
            <a:off x="325440" y="2637000"/>
            <a:ext cx="9953640" cy="152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ida - user32 - 3.PNG"/>
          <p:cNvPicPr/>
          <p:nvPr/>
        </p:nvPicPr>
        <p:blipFill>
          <a:blip r:embed="rId3"/>
          <a:stretch/>
        </p:blipFill>
        <p:spPr>
          <a:xfrm>
            <a:off x="325440" y="2208240"/>
            <a:ext cx="5724360" cy="428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2" descr="ida - user32 - 5.PNG"/>
          <p:cNvPicPr/>
          <p:nvPr/>
        </p:nvPicPr>
        <p:blipFill>
          <a:blip r:embed="rId4"/>
          <a:stretch/>
        </p:blipFill>
        <p:spPr>
          <a:xfrm>
            <a:off x="325440" y="2779560"/>
            <a:ext cx="8962920" cy="162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4" descr="ida - user32 - 6.PNG"/>
          <p:cNvPicPr/>
          <p:nvPr/>
        </p:nvPicPr>
        <p:blipFill>
          <a:blip r:embed="rId5"/>
          <a:stretch/>
        </p:blipFill>
        <p:spPr>
          <a:xfrm>
            <a:off x="4111560" y="40654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5" descr="ida - user32 xp - 3.PNG"/>
          <p:cNvPicPr/>
          <p:nvPr/>
        </p:nvPicPr>
        <p:blipFill>
          <a:blip r:embed="rId6"/>
          <a:stretch/>
        </p:blipFill>
        <p:spPr>
          <a:xfrm>
            <a:off x="6326280" y="40654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07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Part 2: Making a 32-bit imports rebuilder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Toolhelp32 vs. PSAPI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Planning efficiently to save time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5-steps program: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Dump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IAT AutoSearch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Get Imports (Unforwarding)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Show Invalid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Fix Dump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22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3E14C0-447F-4E66-854C-A3F10CCC10AC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Toolhelp32 vs. PSAPI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General purpose APIs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OpenProcess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ReadProcessMemory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VirtualAlloc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VirtualProtectEx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26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27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E38F0C-7537-4001-9003-8F2990B3EE09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Toolhelp32 vs. PSAPI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Toolhelp32 APIs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CreateToolhelp32Snapshot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Process32First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Process32Next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Module32First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Module32Next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ToolHelp32ReadProcessMemory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30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31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8749DC-52AA-4020-B995-47C41690B6BF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Toolhelp32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Footer Placeholder 3"/>
          <p:cNvSpPr/>
          <p:nvPr/>
        </p:nvSpPr>
        <p:spPr>
          <a:xfrm>
            <a:off x="911160" y="728964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0" y="727236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A8509C-036C-456C-B397-2B047C69F55A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435" name="Picture 8" descr="API - CreateToolhelp32 - 2.PNG"/>
          <p:cNvPicPr/>
          <p:nvPr/>
        </p:nvPicPr>
        <p:blipFill>
          <a:blip r:embed="rId1"/>
          <a:stretch/>
        </p:blipFill>
        <p:spPr>
          <a:xfrm>
            <a:off x="396720" y="1565280"/>
            <a:ext cx="6429600" cy="18478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0" descr="API - CreateToolhelp32Snapshot - 4.png"/>
          <p:cNvPicPr/>
          <p:nvPr/>
        </p:nvPicPr>
        <p:blipFill>
          <a:blip r:embed="rId2"/>
          <a:stretch/>
        </p:blipFill>
        <p:spPr>
          <a:xfrm>
            <a:off x="0" y="3422520"/>
            <a:ext cx="10080720" cy="1857600"/>
          </a:xfrm>
          <a:prstGeom prst="rect">
            <a:avLst/>
          </a:prstGeom>
          <a:ln w="0">
            <a:noFill/>
          </a:ln>
        </p:spPr>
      </p:pic>
      <p:pic>
        <p:nvPicPr>
          <p:cNvPr id="437" name="Rectangle 6" descr=""/>
          <p:cNvPicPr/>
          <p:nvPr/>
        </p:nvPicPr>
        <p:blipFill>
          <a:blip r:embed="rId3"/>
          <a:stretch/>
        </p:blipFill>
        <p:spPr>
          <a:xfrm>
            <a:off x="4883040" y="4316400"/>
            <a:ext cx="320040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385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385" fill="hold"/>
                                        <p:tgtEl>
                                          <p:spTgt spid="4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6" dur="385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8" dur="385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Toolhelp32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Footer Placeholder 3"/>
          <p:cNvSpPr/>
          <p:nvPr/>
        </p:nvSpPr>
        <p:spPr>
          <a:xfrm>
            <a:off x="911160" y="728964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40" name="Slide Number Placeholder 4"/>
          <p:cNvSpPr/>
          <p:nvPr/>
        </p:nvSpPr>
        <p:spPr>
          <a:xfrm>
            <a:off x="0" y="727236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D25452-7A76-4801-8824-0713E3A8895C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441" name="Picture 6" descr="API - Process32First.PNG"/>
          <p:cNvPicPr/>
          <p:nvPr/>
        </p:nvPicPr>
        <p:blipFill>
          <a:blip r:embed="rId1"/>
          <a:stretch/>
        </p:blipFill>
        <p:spPr>
          <a:xfrm>
            <a:off x="468360" y="1494000"/>
            <a:ext cx="4448160" cy="18288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API - Process32Next.PNG"/>
          <p:cNvPicPr/>
          <p:nvPr/>
        </p:nvPicPr>
        <p:blipFill>
          <a:blip r:embed="rId2"/>
          <a:stretch/>
        </p:blipFill>
        <p:spPr>
          <a:xfrm>
            <a:off x="468360" y="3565440"/>
            <a:ext cx="42768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Toolhelp32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4" name="Footer Placeholder 2"/>
          <p:cNvSpPr/>
          <p:nvPr/>
        </p:nvSpPr>
        <p:spPr>
          <a:xfrm>
            <a:off x="911160" y="728964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0" y="727236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B57C85-06F5-4B4E-B410-A91CB66E5441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446" name="Picture 4" descr="Structure - PROCESSENTRY32.PNG"/>
          <p:cNvPicPr/>
          <p:nvPr/>
        </p:nvPicPr>
        <p:blipFill>
          <a:blip r:embed="rId1"/>
          <a:stretch/>
        </p:blipFill>
        <p:spPr>
          <a:xfrm>
            <a:off x="325440" y="1422360"/>
            <a:ext cx="6305400" cy="31910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6" descr="Structure - PROCESSENTRY32 - 3.png"/>
          <p:cNvPicPr/>
          <p:nvPr/>
        </p:nvPicPr>
        <p:blipFill>
          <a:blip r:embed="rId2"/>
          <a:stretch/>
        </p:blipFill>
        <p:spPr>
          <a:xfrm>
            <a:off x="0" y="4708440"/>
            <a:ext cx="1008072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Toolhelp32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9" name="Footer Placeholder 2"/>
          <p:cNvSpPr/>
          <p:nvPr/>
        </p:nvSpPr>
        <p:spPr>
          <a:xfrm>
            <a:off x="911160" y="728964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0" y="727236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2295C3-7984-4AED-9B64-7C890753075E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451" name="Picture 7" descr="API - Module32First.PNG"/>
          <p:cNvPicPr/>
          <p:nvPr/>
        </p:nvPicPr>
        <p:blipFill>
          <a:blip r:embed="rId1"/>
          <a:stretch/>
        </p:blipFill>
        <p:spPr>
          <a:xfrm>
            <a:off x="396720" y="1565280"/>
            <a:ext cx="3953160" cy="18478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8" descr="API - Module32Next.PNG"/>
          <p:cNvPicPr/>
          <p:nvPr/>
        </p:nvPicPr>
        <p:blipFill>
          <a:blip r:embed="rId2"/>
          <a:stretch/>
        </p:blipFill>
        <p:spPr>
          <a:xfrm>
            <a:off x="396720" y="3565440"/>
            <a:ext cx="45244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Toolhelp32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Footer Placeholder 2"/>
          <p:cNvSpPr/>
          <p:nvPr/>
        </p:nvSpPr>
        <p:spPr>
          <a:xfrm>
            <a:off x="911160" y="728964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0" y="727236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7C4249-A456-4EA5-897E-64EFB89DC6C9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456" name="Picture 6" descr="Structure - MODULEENTRY32 - 1.PNG"/>
          <p:cNvPicPr/>
          <p:nvPr/>
        </p:nvPicPr>
        <p:blipFill>
          <a:blip r:embed="rId1"/>
          <a:stretch/>
        </p:blipFill>
        <p:spPr>
          <a:xfrm>
            <a:off x="325440" y="1422360"/>
            <a:ext cx="4476600" cy="31719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0" descr="Structure - MODULEENTRY32 - 3.png"/>
          <p:cNvPicPr/>
          <p:nvPr/>
        </p:nvPicPr>
        <p:blipFill>
          <a:blip r:embed="rId2"/>
          <a:stretch/>
        </p:blipFill>
        <p:spPr>
          <a:xfrm>
            <a:off x="325440" y="4637160"/>
            <a:ext cx="4305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Toolhelp32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9" name="Footer Placeholder 2"/>
          <p:cNvSpPr/>
          <p:nvPr/>
        </p:nvSpPr>
        <p:spPr>
          <a:xfrm>
            <a:off x="911160" y="728964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0" y="727236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9B324A-D458-44A2-A864-BC298DAE3957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461" name="Picture 7" descr="API - Toolhelp32ReadProcessMemory - 1.PNG"/>
          <p:cNvPicPr/>
          <p:nvPr/>
        </p:nvPicPr>
        <p:blipFill>
          <a:blip r:embed="rId1"/>
          <a:stretch/>
        </p:blipFill>
        <p:spPr>
          <a:xfrm>
            <a:off x="325440" y="1565280"/>
            <a:ext cx="4419720" cy="22478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8" descr="API - Toolhelp32ReadProcessMemory - 2.PNG"/>
          <p:cNvPicPr/>
          <p:nvPr/>
        </p:nvPicPr>
        <p:blipFill>
          <a:blip r:embed="rId2"/>
          <a:stretch/>
        </p:blipFill>
        <p:spPr>
          <a:xfrm>
            <a:off x="325440" y="3994200"/>
            <a:ext cx="704844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What is CHimpREC?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32 and 64-bit imports rebuilder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Improved version of ImpREC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Fixes many existing bugs 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Introduces new features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Made especially for WoW64 compatibility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Allows for an all-in-one version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982B42-806A-4E2F-A9C4-634F107822A5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Toolhelp32 vs. PSAPI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PSAPI APIs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EnumProcesses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EnumProcessModules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EnumProcessModulesEx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GetModuleInformation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GetModuleBaseName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GetModuleFileNameEx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12D1A1-A837-40A9-BC1F-02BA8A8E3B38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PSAPI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8" name="Footer Placeholder 3"/>
          <p:cNvSpPr/>
          <p:nvPr/>
        </p:nvSpPr>
        <p:spPr>
          <a:xfrm>
            <a:off x="911160" y="728964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69" name="Slide Number Placeholder 4"/>
          <p:cNvSpPr/>
          <p:nvPr/>
        </p:nvSpPr>
        <p:spPr>
          <a:xfrm>
            <a:off x="0" y="727236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6B687C-CAF2-4B4D-9757-5C7FAD81F41A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470" name="Picture 5" descr="API - EnumProcesses.PNG"/>
          <p:cNvPicPr/>
          <p:nvPr/>
        </p:nvPicPr>
        <p:blipFill>
          <a:blip r:embed="rId1"/>
          <a:stretch/>
        </p:blipFill>
        <p:spPr>
          <a:xfrm>
            <a:off x="468360" y="1708200"/>
            <a:ext cx="3924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PSAPI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2" name="Footer Placeholder 3"/>
          <p:cNvSpPr/>
          <p:nvPr/>
        </p:nvSpPr>
        <p:spPr>
          <a:xfrm>
            <a:off x="911160" y="728964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73" name="Slide Number Placeholder 4"/>
          <p:cNvSpPr/>
          <p:nvPr/>
        </p:nvSpPr>
        <p:spPr>
          <a:xfrm>
            <a:off x="0" y="727236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713561-1A58-434C-B0D1-680E73CA482E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474" name="Picture 6" descr="API - EnumProcessModules - 2.PNG"/>
          <p:cNvPicPr/>
          <p:nvPr/>
        </p:nvPicPr>
        <p:blipFill>
          <a:blip r:embed="rId1"/>
          <a:stretch/>
        </p:blipFill>
        <p:spPr>
          <a:xfrm>
            <a:off x="396720" y="1494000"/>
            <a:ext cx="8496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PSAPI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Footer Placeholder 3"/>
          <p:cNvSpPr/>
          <p:nvPr/>
        </p:nvSpPr>
        <p:spPr>
          <a:xfrm>
            <a:off x="911160" y="728964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77" name="Slide Number Placeholder 4"/>
          <p:cNvSpPr/>
          <p:nvPr/>
        </p:nvSpPr>
        <p:spPr>
          <a:xfrm>
            <a:off x="0" y="727236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AE0C7A-0047-45E9-9790-2D89C1787CBD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478" name="Picture 5" descr="API - EnumProcessModulesEx - 1.PNG"/>
          <p:cNvPicPr/>
          <p:nvPr/>
        </p:nvPicPr>
        <p:blipFill>
          <a:blip r:embed="rId1"/>
          <a:stretch/>
        </p:blipFill>
        <p:spPr>
          <a:xfrm>
            <a:off x="325440" y="1494000"/>
            <a:ext cx="5381640" cy="45241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7" descr="API - EnumProcessModulesEx - 2.PNG"/>
          <p:cNvPicPr/>
          <p:nvPr/>
        </p:nvPicPr>
        <p:blipFill>
          <a:blip r:embed="rId2"/>
          <a:stretch/>
        </p:blipFill>
        <p:spPr>
          <a:xfrm>
            <a:off x="5326200" y="3994200"/>
            <a:ext cx="45529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PSAPI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Footer Placeholder 3"/>
          <p:cNvSpPr/>
          <p:nvPr/>
        </p:nvSpPr>
        <p:spPr>
          <a:xfrm>
            <a:off x="911160" y="728964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82" name="Slide Number Placeholder 4"/>
          <p:cNvSpPr/>
          <p:nvPr/>
        </p:nvSpPr>
        <p:spPr>
          <a:xfrm>
            <a:off x="0" y="727236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B24F81-E1F2-4ADE-8DFA-4103627B72B0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483" name="Picture 6" descr="API - GetModuleInformation.PNG"/>
          <p:cNvPicPr/>
          <p:nvPr/>
        </p:nvPicPr>
        <p:blipFill>
          <a:blip r:embed="rId1"/>
          <a:stretch/>
        </p:blipFill>
        <p:spPr>
          <a:xfrm>
            <a:off x="344520" y="1650960"/>
            <a:ext cx="93916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PSAPI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Footer Placeholder 3"/>
          <p:cNvSpPr/>
          <p:nvPr/>
        </p:nvSpPr>
        <p:spPr>
          <a:xfrm>
            <a:off x="911160" y="728964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86" name="Slide Number Placeholder 4"/>
          <p:cNvSpPr/>
          <p:nvPr/>
        </p:nvSpPr>
        <p:spPr>
          <a:xfrm>
            <a:off x="0" y="727236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57567E-9EB6-4340-90FD-B54FAFE5262C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487" name="Picture 5" descr="Structure - MODULEINFO.PNG"/>
          <p:cNvPicPr/>
          <p:nvPr/>
        </p:nvPicPr>
        <p:blipFill>
          <a:blip r:embed="rId1"/>
          <a:stretch/>
        </p:blipFill>
        <p:spPr>
          <a:xfrm>
            <a:off x="396720" y="1565280"/>
            <a:ext cx="38862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PSAPI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Footer Placeholder 3"/>
          <p:cNvSpPr/>
          <p:nvPr/>
        </p:nvSpPr>
        <p:spPr>
          <a:xfrm>
            <a:off x="911160" y="728964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90" name="Slide Number Placeholder 4"/>
          <p:cNvSpPr/>
          <p:nvPr/>
        </p:nvSpPr>
        <p:spPr>
          <a:xfrm>
            <a:off x="0" y="727236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A6E458-1E62-4DD0-91A3-DFE9763A86B5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491" name="Picture 6" descr="API - GetModuleBaseName.PNG"/>
          <p:cNvPicPr/>
          <p:nvPr/>
        </p:nvPicPr>
        <p:blipFill>
          <a:blip r:embed="rId1"/>
          <a:stretch/>
        </p:blipFill>
        <p:spPr>
          <a:xfrm>
            <a:off x="325440" y="1565280"/>
            <a:ext cx="3009960" cy="21049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API - GetModuleFileNameEx.PNG"/>
          <p:cNvPicPr/>
          <p:nvPr/>
        </p:nvPicPr>
        <p:blipFill>
          <a:blip r:embed="rId2"/>
          <a:stretch/>
        </p:blipFill>
        <p:spPr>
          <a:xfrm>
            <a:off x="325440" y="3922560"/>
            <a:ext cx="42102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Toolhelp32 vs. PSAPI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396720" y="3208320"/>
          <a:ext cx="9353880" cy="1482840"/>
        </p:xfrm>
        <a:graphic>
          <a:graphicData uri="http://schemas.openxmlformats.org/drawingml/2006/table">
            <a:tbl>
              <a:tblPr/>
              <a:tblGrid>
                <a:gridCol w="3648240"/>
                <a:gridCol w="1438200"/>
                <a:gridCol w="1440000"/>
                <a:gridCol w="1439640"/>
                <a:gridCol w="1387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55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86 -&gt; x86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55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64 -&gt; x64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55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86 -&gt; x64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55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64 -&gt; x86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557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reateToolhelp32Snaphot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&gt;&lt;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numProcessModules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9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numProcessModulesEx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</a:tr>
            </a:tbl>
          </a:graphicData>
        </a:graphic>
      </p:graphicFrame>
      <p:sp>
        <p:nvSpPr>
          <p:cNvPr id="495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13E7E9-2534-4138-B1A7-0358B106BBD2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97" name="TextBox 6"/>
          <p:cNvSpPr/>
          <p:nvPr/>
        </p:nvSpPr>
        <p:spPr>
          <a:xfrm>
            <a:off x="611280" y="263700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333333"/>
                </a:solidFill>
                <a:latin typeface="Calibri"/>
              </a:rPr>
              <a:t>Cross-Architecture Compatibility</a:t>
            </a:r>
            <a:endParaRPr b="0" lang="en-US" sz="32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Toolhelp32 vs. PSAPI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9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00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A756D6-9F68-4F0B-9F18-372DE95D5737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01" name="TextBox 7"/>
          <p:cNvSpPr/>
          <p:nvPr/>
        </p:nvSpPr>
        <p:spPr>
          <a:xfrm>
            <a:off x="611280" y="2637000"/>
            <a:ext cx="89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333333"/>
                </a:solidFill>
                <a:latin typeface="Calibri"/>
              </a:rPr>
              <a:t>Windows Version Compatibility</a:t>
            </a:r>
            <a:endParaRPr b="0" lang="en-US" sz="3200" spc="-1" strike="noStrike">
              <a:solidFill>
                <a:srgbClr val="333333"/>
              </a:solidFill>
              <a:latin typeface="DejaVu Sans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396720" y="3208320"/>
          <a:ext cx="9353880" cy="1482840"/>
        </p:xfrm>
        <a:graphic>
          <a:graphicData uri="http://schemas.openxmlformats.org/drawingml/2006/table">
            <a:tbl>
              <a:tblPr/>
              <a:tblGrid>
                <a:gridCol w="3011760"/>
                <a:gridCol w="703080"/>
                <a:gridCol w="701640"/>
                <a:gridCol w="703440"/>
                <a:gridCol w="920520"/>
                <a:gridCol w="919440"/>
                <a:gridCol w="919080"/>
                <a:gridCol w="649080"/>
                <a:gridCol w="825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55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55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55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55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T4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55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55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55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P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55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ta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557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reateToolhelp32Snapshot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numProcessModules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9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numProcessModulesEx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Planning efficiently to save time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2 Single-Architecture versions (x86 OR x64)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To each his own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APIs: CreateToolhelp32Snapshot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Best OS compatibility range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Allows for common project source and headers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Cross-Architecture All-in-one version (x86 AND x64)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Made from a different x64 project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Requires 64-bit OS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EnumProcessModules &amp; Ex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Runs on Vista x64 only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05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1543B9-1B6F-49FF-A7B4-9869C5F759B0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What is CHimpREC?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Footer Placeholder 3"/>
          <p:cNvSpPr/>
          <p:nvPr/>
        </p:nvSpPr>
        <p:spPr>
          <a:xfrm>
            <a:off x="911160" y="728964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0" y="727236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5551A8-D554-4EEA-9D6B-1CD136F641FF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282" name="Picture 6" descr="CHimpREC.PNG"/>
          <p:cNvPicPr/>
          <p:nvPr/>
        </p:nvPicPr>
        <p:blipFill>
          <a:blip r:embed="rId1"/>
          <a:stretch/>
        </p:blipFill>
        <p:spPr>
          <a:xfrm>
            <a:off x="1682640" y="1494000"/>
            <a:ext cx="6724800" cy="5047920"/>
          </a:xfrm>
          <a:prstGeom prst="rect">
            <a:avLst/>
          </a:prstGeom>
          <a:ln w="0">
            <a:noFill/>
          </a:ln>
        </p:spPr>
      </p:pic>
      <p:sp>
        <p:nvSpPr>
          <p:cNvPr id="283" name="Frame 7"/>
          <p:cNvSpPr/>
          <p:nvPr/>
        </p:nvSpPr>
        <p:spPr>
          <a:xfrm>
            <a:off x="7112160" y="2351160"/>
            <a:ext cx="1214280" cy="1643040"/>
          </a:xfrm>
          <a:prstGeom prst="pie">
            <a:avLst/>
          </a:prstGeom>
          <a:solidFill>
            <a:srgbClr val="00b8f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Step 1: Dump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Copying the memory area of a process to a file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When the process has reached its Original Entry Point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Each section is dumped individually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Each section RawSize must be realigned from FileAlignment to SectionAlignment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RawAddress matches VirtualAddress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All sections are made writable by adding the flag: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 </a:t>
            </a: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IMAGE_SCN_MEM_WRITE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VirtualProtectEx to change the process memory to: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PAGE_EXECUTE_READWRITE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2D82E0-2299-4AAA-A0FD-603D903D2E69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Step 1: Dump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2" name="Footer Placeholder 3"/>
          <p:cNvSpPr/>
          <p:nvPr/>
        </p:nvSpPr>
        <p:spPr>
          <a:xfrm>
            <a:off x="911160" y="728964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13" name="Slide Number Placeholder 4"/>
          <p:cNvSpPr/>
          <p:nvPr/>
        </p:nvSpPr>
        <p:spPr>
          <a:xfrm>
            <a:off x="0" y="727236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D6EB45-A1CD-4670-B77D-2348A803921D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514" name="Picture 5" descr="UPX - 1.PNG"/>
          <p:cNvPicPr/>
          <p:nvPr/>
        </p:nvPicPr>
        <p:blipFill>
          <a:blip r:embed="rId1"/>
          <a:stretch/>
        </p:blipFill>
        <p:spPr>
          <a:xfrm>
            <a:off x="754200" y="1994040"/>
            <a:ext cx="8582040" cy="1447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6" descr="UPX - 2.PNG"/>
          <p:cNvPicPr/>
          <p:nvPr/>
        </p:nvPicPr>
        <p:blipFill>
          <a:blip r:embed="rId2"/>
          <a:stretch/>
        </p:blipFill>
        <p:spPr>
          <a:xfrm>
            <a:off x="754200" y="4137120"/>
            <a:ext cx="8591400" cy="1447560"/>
          </a:xfrm>
          <a:prstGeom prst="rect">
            <a:avLst/>
          </a:prstGeom>
          <a:ln w="0">
            <a:noFill/>
          </a:ln>
        </p:spPr>
      </p:pic>
      <p:sp>
        <p:nvSpPr>
          <p:cNvPr id="516" name="Curved Down Arrow 7"/>
          <p:cNvSpPr/>
          <p:nvPr/>
        </p:nvSpPr>
        <p:spPr>
          <a:xfrm>
            <a:off x="2825640" y="3494160"/>
            <a:ext cx="2000520" cy="571320"/>
          </a:xfrm>
          <a:custGeom>
            <a:avLst/>
            <a:gdLst>
              <a:gd name="textAreaLeft" fmla="*/ 404280 w 2000520"/>
              <a:gd name="textAreaRight" fmla="*/ 1462320 w 200052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35" hR="21600" stAng="10800000" swAng="5400000"/>
                <a:lnTo>
                  <a:pt x="11421" y="0"/>
                </a:lnTo>
                <a:arcTo wR="8735" hR="21600" stAng="-5400000" swAng="3446562"/>
                <a:lnTo>
                  <a:pt x="21323" y="16200"/>
                </a:lnTo>
                <a:lnTo>
                  <a:pt x="18813" y="21600"/>
                </a:lnTo>
                <a:lnTo>
                  <a:pt x="15749" y="16200"/>
                </a:lnTo>
                <a:lnTo>
                  <a:pt x="17193" y="16200"/>
                </a:lnTo>
                <a:arcTo wR="8735" hR="21600" stAng="-1953438" swAng="-3230530"/>
                <a:lnTo>
                  <a:pt x="10078" y="257"/>
                </a:lnTo>
                <a:arcTo wR="8735" hR="21600" stAng="-5616032" swAng="-5183968"/>
                <a:close/>
              </a:path>
              <a:path fill="darkenLess" w="21600" h="21600">
                <a:moveTo>
                  <a:pt x="0" y="21600"/>
                </a:moveTo>
                <a:arcTo wR="8735" hR="21600" stAng="10800000" swAng="5400000"/>
                <a:lnTo>
                  <a:pt x="8735" y="0"/>
                </a:lnTo>
                <a:arcTo wR="8735" hR="21600" stAng="-5400000" swAng="216032"/>
                <a:lnTo>
                  <a:pt x="10078" y="257"/>
                </a:lnTo>
                <a:arcTo wR="8735" hR="21600" stAng="-5616032" swAng="-5183968"/>
                <a:close/>
              </a:path>
            </a:pathLst>
          </a:custGeom>
          <a:solidFill>
            <a:srgbClr val="00b8f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17" name="Curved Up Arrow 8"/>
          <p:cNvSpPr/>
          <p:nvPr/>
        </p:nvSpPr>
        <p:spPr>
          <a:xfrm>
            <a:off x="1825560" y="5637240"/>
            <a:ext cx="2000160" cy="571320"/>
          </a:xfrm>
          <a:custGeom>
            <a:avLst/>
            <a:gdLst>
              <a:gd name="textAreaLeft" fmla="*/ 408600 w 2000160"/>
              <a:gd name="textAreaRight" fmla="*/ 1448280 w 200016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27" hR="21600" stAng="10800000" swAng="-5400000"/>
                <a:lnTo>
                  <a:pt x="11228" y="21600"/>
                </a:lnTo>
                <a:arcTo wR="8827" hR="21600" stAng="5400000" swAng="-3462775"/>
                <a:lnTo>
                  <a:pt x="21320" y="5400"/>
                </a:lnTo>
                <a:lnTo>
                  <a:pt x="18854" y="0"/>
                </a:lnTo>
                <a:lnTo>
                  <a:pt x="15827" y="5400"/>
                </a:lnTo>
                <a:lnTo>
                  <a:pt x="17373" y="5400"/>
                </a:lnTo>
                <a:arcTo wR="8827" hR="21600" stAng="1937225" swAng="3270120"/>
                <a:lnTo>
                  <a:pt x="10027" y="21399"/>
                </a:lnTo>
                <a:arcTo wR="8827" hR="21600" stAng="5592656" swAng="5207344"/>
                <a:close/>
              </a:path>
              <a:path fill="darkenLess" w="21600" h="21600">
                <a:moveTo>
                  <a:pt x="0" y="0"/>
                </a:moveTo>
                <a:arcTo wR="8827" hR="21600" stAng="10800000" swAng="-5400000"/>
                <a:lnTo>
                  <a:pt x="11228" y="21600"/>
                </a:lnTo>
                <a:arcTo wR="8827" hR="21600" stAng="5400000" swAng="192656"/>
                <a:lnTo>
                  <a:pt x="10027" y="21399"/>
                </a:lnTo>
                <a:arcTo wR="8827" hR="21600" stAng="5592656" swAng="5207344"/>
                <a:close/>
              </a:path>
            </a:pathLst>
          </a:custGeom>
          <a:solidFill>
            <a:srgbClr val="00b8f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Step 2: IAT AutoSearch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Binary search looking for indirect call opcodes: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8B0D MOV ECX,[ADDRESS]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8B15 MOV EDX,[ADDRESS]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8B1D MOV EBX,[ADDRESS]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8B25 MOV ESP,[ADDRESS]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8B2D MOV EBP,[ADDRESS]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8B35 MOV ESI,[ADDRESS]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8B3D MOV EDI,[ADDRESS]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A1 MOV EAX,[ADDRESS]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21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9239A6-D032-4F06-9A95-109721DB0EEE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Step 2: IAT AutoSearch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Binary search looking for direct call opcodes: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FF15 CALL [ADDRESS]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FF25 JMP [ADDRESS]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FF35 PUSH [ADDRESS]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Binary search ignores relative calls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Starting from ImageBase or EntryPoint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Found call must lead to a valid import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Search up for the beginning of the IAT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Search down for the end of the IAT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Just like trying to identify a weird object in the dark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25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0058DB-4498-4D0C-AEC9-446689830796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Step 2: IAT AutoSearch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911160" y="728964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28" name="Slide Number Placeholder 4"/>
          <p:cNvSpPr/>
          <p:nvPr/>
        </p:nvSpPr>
        <p:spPr>
          <a:xfrm>
            <a:off x="0" y="727236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C72C58-96F8-4E09-AC6E-E9AAD1E41DA4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529" name="Picture 5" descr="AutoSearch - 1.PNG"/>
          <p:cNvPicPr/>
          <p:nvPr/>
        </p:nvPicPr>
        <p:blipFill>
          <a:blip r:embed="rId1"/>
          <a:stretch/>
        </p:blipFill>
        <p:spPr>
          <a:xfrm>
            <a:off x="2611440" y="1565280"/>
            <a:ext cx="4543560" cy="20574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8" descr="AutoSearch - 4.PNG"/>
          <p:cNvPicPr/>
          <p:nvPr/>
        </p:nvPicPr>
        <p:blipFill>
          <a:blip r:embed="rId2"/>
          <a:stretch/>
        </p:blipFill>
        <p:spPr>
          <a:xfrm>
            <a:off x="682560" y="4065480"/>
            <a:ext cx="8439120" cy="1143000"/>
          </a:xfrm>
          <a:prstGeom prst="rect">
            <a:avLst/>
          </a:prstGeom>
          <a:ln w="0">
            <a:noFill/>
          </a:ln>
        </p:spPr>
      </p:pic>
      <p:sp>
        <p:nvSpPr>
          <p:cNvPr id="531" name="Frame 6"/>
          <p:cNvSpPr/>
          <p:nvPr/>
        </p:nvSpPr>
        <p:spPr>
          <a:xfrm>
            <a:off x="254160" y="1422360"/>
            <a:ext cx="928440" cy="357120"/>
          </a:xfrm>
          <a:prstGeom prst="pie">
            <a:avLst/>
          </a:prstGeom>
          <a:solidFill>
            <a:srgbClr val="00b8f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32" name="Multiply 7"/>
          <p:cNvSpPr/>
          <p:nvPr/>
        </p:nvSpPr>
        <p:spPr>
          <a:xfrm>
            <a:off x="254160" y="1422360"/>
            <a:ext cx="500040" cy="285840"/>
          </a:xfrm>
          <a:prstGeom prst="pie">
            <a:avLst/>
          </a:prstGeom>
          <a:solidFill>
            <a:srgbClr val="ff000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33" name="Multiply 9"/>
          <p:cNvSpPr/>
          <p:nvPr/>
        </p:nvSpPr>
        <p:spPr>
          <a:xfrm>
            <a:off x="682560" y="1422360"/>
            <a:ext cx="500040" cy="285840"/>
          </a:xfrm>
          <a:prstGeom prst="pie">
            <a:avLst/>
          </a:prstGeom>
          <a:solidFill>
            <a:srgbClr val="ff000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34" name="Frame 10"/>
          <p:cNvSpPr/>
          <p:nvPr/>
        </p:nvSpPr>
        <p:spPr>
          <a:xfrm>
            <a:off x="0" y="5137200"/>
            <a:ext cx="825480" cy="357120"/>
          </a:xfrm>
          <a:prstGeom prst="pie">
            <a:avLst/>
          </a:prstGeom>
          <a:solidFill>
            <a:srgbClr val="00b8f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35" name="Frame 11"/>
          <p:cNvSpPr/>
          <p:nvPr/>
        </p:nvSpPr>
        <p:spPr>
          <a:xfrm>
            <a:off x="896760" y="5137200"/>
            <a:ext cx="1714680" cy="357120"/>
          </a:xfrm>
          <a:prstGeom prst="pie">
            <a:avLst/>
          </a:prstGeom>
          <a:solidFill>
            <a:srgbClr val="00b8f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9" dur="1000" fill="hold"/>
                                        <p:tgtEl>
                                          <p:spTgt spid="52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0" dur="500" fill="hold"/>
                                        <p:tgtEl>
                                          <p:spTgt spid="52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8" dur="1000" fill="hold"/>
                                        <p:tgtEl>
                                          <p:spTgt spid="530"/>
                                        </p:tgtEl>
                                      </p:cBhvr>
                                      <p:to x="195000" y="195000"/>
                                    </p:animScale>
                                  </p:childTnLst>
                                </p:cTn>
                              </p:par>
                              <p:par>
                                <p:cTn id="6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2657E-007 4.53782E-006 L 0.11365 0.00084 E">
                                      <p:cBhvr>
                                        <p:cTn id="680" dur="1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Step 2: IAT AutoSearch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Footer Placeholder 3"/>
          <p:cNvSpPr/>
          <p:nvPr/>
        </p:nvSpPr>
        <p:spPr>
          <a:xfrm>
            <a:off x="911160" y="728964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38" name="Slide Number Placeholder 4"/>
          <p:cNvSpPr/>
          <p:nvPr/>
        </p:nvSpPr>
        <p:spPr>
          <a:xfrm>
            <a:off x="0" y="727236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5BACF5-4E1F-493F-9CBB-3A7433665ADE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539" name="Picture 6" descr="AutoSearch - 3.PNG"/>
          <p:cNvPicPr/>
          <p:nvPr/>
        </p:nvPicPr>
        <p:blipFill>
          <a:blip r:embed="rId1"/>
          <a:stretch/>
        </p:blipFill>
        <p:spPr>
          <a:xfrm>
            <a:off x="749160" y="2208240"/>
            <a:ext cx="85820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1" dur="1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9108E-006 -8.40336E-008 L 0.14277 -8.40336E-008 E">
                                      <p:cBhvr>
                                        <p:cTn id="703" dur="1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Step 3: Get Imports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Identify the elements of the IAT in the specified range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Exactly the contrary of GetProcAddress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Using custom-made reusable functions: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GetProcModuleName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GetProcName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GetProcOrdinal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GetProcNameAndOrdinal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GetProcInfo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Unforward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42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43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23B9BA-F103-4D94-9242-965E2A398AA3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Step 3: Get Imports (Unforwarding)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The Entry Point of the function is not code but a string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Imports are forwarded for compatibility between all the different versions of Windows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If an import can be unforwarded, it doesn’t mean that it really was forwarded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There are many false-positives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Must analyze the context with some fuzzy logic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Could be called guessing too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46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47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BB3DAE-AFC0-4324-9757-D7B422C7CD68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Step 3: Get Imports (Unforwarding)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Footer Placeholder 3"/>
          <p:cNvSpPr/>
          <p:nvPr/>
        </p:nvSpPr>
        <p:spPr>
          <a:xfrm>
            <a:off x="911160" y="728964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0" y="727236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4E320D-D5AF-46C0-B701-A766494E72F0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551" name="Picture 5" descr="ImpREC 1.7 - WoW64 SP1 - 2.PNG"/>
          <p:cNvPicPr/>
          <p:nvPr/>
        </p:nvPicPr>
        <p:blipFill>
          <a:blip r:embed="rId1"/>
          <a:stretch/>
        </p:blipFill>
        <p:spPr>
          <a:xfrm>
            <a:off x="2178000" y="1455840"/>
            <a:ext cx="57247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1" dur="1000" fill="hold"/>
                                        <p:tgtEl>
                                          <p:spTgt spid="5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Step 3: Get Imports (Unforwarding)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3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54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1CF6B6-AEFB-41FF-8FC9-09CC7BFDFA1D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555" name="Picture 7" descr="cff explorer - user32 - 1.PNG"/>
          <p:cNvPicPr/>
          <p:nvPr/>
        </p:nvPicPr>
        <p:blipFill>
          <a:blip r:embed="rId1"/>
          <a:stretch/>
        </p:blipFill>
        <p:spPr>
          <a:xfrm>
            <a:off x="2397240" y="1922400"/>
            <a:ext cx="5352840" cy="12096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2" descr="ida - user32 - 01.png"/>
          <p:cNvPicPr/>
          <p:nvPr/>
        </p:nvPicPr>
        <p:blipFill>
          <a:blip r:embed="rId2"/>
          <a:stretch/>
        </p:blipFill>
        <p:spPr>
          <a:xfrm>
            <a:off x="2397240" y="3208320"/>
            <a:ext cx="5352840" cy="1162080"/>
          </a:xfrm>
          <a:prstGeom prst="rect">
            <a:avLst/>
          </a:prstGeom>
          <a:ln w="0">
            <a:noFill/>
          </a:ln>
        </p:spPr>
      </p:pic>
      <p:pic>
        <p:nvPicPr>
          <p:cNvPr id="557" name="Content Placeholder 9" descr="ida - user32 - 2.PNG"/>
          <p:cNvPicPr/>
          <p:nvPr/>
        </p:nvPicPr>
        <p:blipFill>
          <a:blip r:embed="rId3"/>
          <a:stretch/>
        </p:blipFill>
        <p:spPr>
          <a:xfrm>
            <a:off x="468360" y="4351320"/>
            <a:ext cx="928224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7" dur="1000" fill="hold"/>
                                        <p:tgtEl>
                                          <p:spTgt spid="55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500" fill="hold"/>
                                        <p:tgtEl>
                                          <p:spTgt spid="5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8" dur="1000" fill="hold"/>
                                        <p:tgtEl>
                                          <p:spTgt spid="55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2" dur="500" fill="hold"/>
                                        <p:tgtEl>
                                          <p:spTgt spid="55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9" dur="1000" fill="hold"/>
                                        <p:tgtEl>
                                          <p:spTgt spid="557"/>
                                        </p:tgtEl>
                                      </p:cBhvr>
                                      <p:to x="175000" y="175000"/>
                                    </p:animScale>
                                  </p:childTnLst>
                                </p:cTn>
                              </p:par>
                              <p:par>
                                <p:cTn id="80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4692E-006 2.01681E-006 L 0.12168 0.00063 E">
                                      <p:cBhvr>
                                        <p:cTn id="801" dur="1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Why do this project?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ImpREC is getting older.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There are no public 64-bit imports rebuilder</a:t>
            </a:r>
            <a:br>
              <a:rPr sz="3100"/>
            </a:b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freely available on the internet right now.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I was curious.</a:t>
            </a:r>
            <a:br>
              <a:rPr sz="3100"/>
            </a:b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I am a reverser.</a:t>
            </a:r>
            <a:br>
              <a:rPr sz="3100"/>
            </a:b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It’s what I do.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Somebody had to do it.</a:t>
            </a:r>
            <a:br>
              <a:rPr sz="3100"/>
            </a:b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That person happened to be me.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86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E0ACAD-0F53-46CE-86C6-44DE936E0763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5"/>
          <p:cNvSpPr/>
          <p:nvPr/>
        </p:nvSpPr>
        <p:spPr>
          <a:xfrm>
            <a:off x="2682720" y="1851120"/>
            <a:ext cx="47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333333"/>
                </a:solidFill>
                <a:latin typeface="Calibri"/>
              </a:rPr>
              <a:t>False-positives</a:t>
            </a:r>
            <a:endParaRPr b="0" lang="en-US" sz="32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Step 3: Get Imports (Unforwarding)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0" name="Footer Placeholder 3"/>
          <p:cNvSpPr/>
          <p:nvPr/>
        </p:nvSpPr>
        <p:spPr>
          <a:xfrm>
            <a:off x="911160" y="728964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0" y="727236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0CBA20-2B62-440B-8314-203D00C36020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562" name="Picture 6" descr="export viewer - shlwapi - 1.PNG"/>
          <p:cNvPicPr/>
          <p:nvPr/>
        </p:nvPicPr>
        <p:blipFill>
          <a:blip r:embed="rId1"/>
          <a:stretch/>
        </p:blipFill>
        <p:spPr>
          <a:xfrm>
            <a:off x="2682720" y="2422440"/>
            <a:ext cx="47246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7" dur="1000" fill="hold"/>
                                        <p:tgtEl>
                                          <p:spTgt spid="56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6"/>
          <p:cNvSpPr/>
          <p:nvPr/>
        </p:nvSpPr>
        <p:spPr>
          <a:xfrm>
            <a:off x="2682720" y="1851120"/>
            <a:ext cx="47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333333"/>
                </a:solidFill>
                <a:latin typeface="Calibri"/>
              </a:rPr>
              <a:t>Forwarding by ordinal</a:t>
            </a:r>
            <a:endParaRPr b="0" lang="en-US" sz="32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Step 3: Get Imports (Unforwarding)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5" name="Footer Placeholder 3"/>
          <p:cNvSpPr/>
          <p:nvPr/>
        </p:nvSpPr>
        <p:spPr>
          <a:xfrm>
            <a:off x="911160" y="728964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0" y="727236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767A3F-0B40-4B3F-939B-5F712C7CA893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567" name="Picture 5" descr="export viewer - shlwapi - 2.PNG"/>
          <p:cNvPicPr/>
          <p:nvPr/>
        </p:nvPicPr>
        <p:blipFill>
          <a:blip r:embed="rId1"/>
          <a:stretch/>
        </p:blipFill>
        <p:spPr>
          <a:xfrm>
            <a:off x="2682720" y="2422440"/>
            <a:ext cx="47246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3" dur="1000" fill="hold"/>
                                        <p:tgtEl>
                                          <p:spTgt spid="56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Step 4: Show Invalid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Display unidentified IAT entries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Text search through the interface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Check all imports one by one for validity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Simplest step to implement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613704-C453-4D92-B687-E46FF13E0096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Recreate the Import Directory to satisfy the loader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Restore the original IAT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Assemble structures that point to each other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IMAGE_IMPORT_DESCRIPTOR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IMAGE_IMPORT_BY_NAME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Like gears in a clock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Step 5: Fix dump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4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75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D50582-D350-4C9D-99DA-82DA92154841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576" name="Diagram 8" descr=""/>
          <p:cNvPicPr/>
          <p:nvPr/>
        </p:nvPicPr>
        <p:blipFill>
          <a:blip r:embed="rId1"/>
          <a:stretch/>
        </p:blipFill>
        <p:spPr>
          <a:xfrm>
            <a:off x="1316160" y="2273400"/>
            <a:ext cx="1194264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Step 5: Fix dump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8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79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A9A321-3D96-4B2E-9DF0-5B421D248B30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754200" y="5565600"/>
            <a:ext cx="3714480" cy="500400"/>
          </a:xfrm>
          <a:prstGeom prst="rect">
            <a:avLst/>
          </a:prstGeom>
          <a:solidFill>
            <a:srgbClr val="7030a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1800" spc="-1" strike="noStrike">
                <a:solidFill>
                  <a:srgbClr val="333333"/>
                </a:solidFill>
                <a:latin typeface="DejaVu Sans"/>
              </a:rPr>
              <a:t>IMAGE_IMPORT_DESCRIPTOR</a:t>
            </a: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581" name="Rectangle 15" descr=""/>
          <p:cNvPicPr/>
          <p:nvPr/>
        </p:nvPicPr>
        <p:blipFill>
          <a:blip r:embed="rId1"/>
          <a:stretch/>
        </p:blipFill>
        <p:spPr>
          <a:xfrm>
            <a:off x="7454880" y="3767040"/>
            <a:ext cx="646200" cy="295776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16"/>
          <p:cNvSpPr/>
          <p:nvPr/>
        </p:nvSpPr>
        <p:spPr>
          <a:xfrm>
            <a:off x="5826240" y="1922400"/>
            <a:ext cx="3714480" cy="500040"/>
          </a:xfrm>
          <a:prstGeom prst="rect">
            <a:avLst/>
          </a:prstGeom>
          <a:solidFill>
            <a:srgbClr val="00b0f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1800" spc="-1" strike="noStrike">
                <a:solidFill>
                  <a:srgbClr val="333333"/>
                </a:solidFill>
                <a:latin typeface="DejaVu Sans"/>
              </a:rPr>
              <a:t>IMAGE_IMPORT_BY_NAME</a:t>
            </a: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83" name="Rectangle 17"/>
          <p:cNvSpPr/>
          <p:nvPr/>
        </p:nvSpPr>
        <p:spPr>
          <a:xfrm>
            <a:off x="682560" y="1922400"/>
            <a:ext cx="3714840" cy="500040"/>
          </a:xfrm>
          <a:prstGeom prst="rect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1800" spc="-1" strike="noStrike">
                <a:solidFill>
                  <a:srgbClr val="333333"/>
                </a:solidFill>
                <a:latin typeface="DejaVu Sans"/>
              </a:rPr>
              <a:t>HINT/NAME ARRAY</a:t>
            </a: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cxnSp>
        <p:nvCxnSpPr>
          <p:cNvPr id="584" name="Elbow Connector 25"/>
          <p:cNvCxnSpPr>
            <a:stCxn id="580" idx="3"/>
          </p:cNvCxnSpPr>
          <p:nvPr/>
        </p:nvCxnSpPr>
        <p:spPr>
          <a:xfrm flipV="1">
            <a:off x="4468320" y="3921840"/>
            <a:ext cx="3001320" cy="1894680"/>
          </a:xfrm>
          <a:prstGeom prst="bentConnector3">
            <a:avLst>
              <a:gd name="adj1" fmla="val 50000"/>
            </a:avLst>
          </a:prstGeom>
          <a:ln w="9360">
            <a:solidFill>
              <a:srgbClr val="333333"/>
            </a:solidFill>
            <a:round/>
            <a:tailEnd len="med" type="arrow" w="med"/>
          </a:ln>
        </p:spPr>
      </p:cxnSp>
      <p:cxnSp>
        <p:nvCxnSpPr>
          <p:cNvPr id="585" name="Straight Arrow Connector 32"/>
          <p:cNvCxnSpPr>
            <a:stCxn id="581" idx="0"/>
            <a:endCxn id="582" idx="2"/>
          </p:cNvCxnSpPr>
          <p:nvPr/>
        </p:nvCxnSpPr>
        <p:spPr>
          <a:xfrm flipH="1" flipV="1">
            <a:off x="7682760" y="2421720"/>
            <a:ext cx="37080" cy="1358280"/>
          </a:xfrm>
          <a:prstGeom prst="straightConnector1">
            <a:avLst/>
          </a:prstGeom>
          <a:ln w="9360">
            <a:solidFill>
              <a:srgbClr val="333333"/>
            </a:solidFill>
            <a:miter/>
            <a:tailEnd len="med" type="arrow" w="med"/>
          </a:ln>
        </p:spPr>
      </p:cxnSp>
      <p:grpSp>
        <p:nvGrpSpPr>
          <p:cNvPr id="586" name="Group 41"/>
          <p:cNvGrpSpPr/>
          <p:nvPr/>
        </p:nvGrpSpPr>
        <p:grpSpPr>
          <a:xfrm>
            <a:off x="7968600" y="2422440"/>
            <a:ext cx="788040" cy="1501920"/>
            <a:chOff x="7968600" y="2422440"/>
            <a:chExt cx="788040" cy="1501920"/>
          </a:xfrm>
        </p:grpSpPr>
        <p:sp>
          <p:nvSpPr>
            <p:cNvPr id="587" name="Straight Connector 38"/>
            <p:cNvSpPr/>
            <p:nvPr/>
          </p:nvSpPr>
          <p:spPr>
            <a:xfrm flipH="1">
              <a:off x="8755200" y="2422440"/>
              <a:ext cx="1440" cy="1501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DejaVu Sans"/>
              </a:endParaRPr>
            </a:p>
          </p:txBody>
        </p:sp>
        <p:cxnSp>
          <p:nvCxnSpPr>
            <p:cNvPr id="588" name="Straight Arrow Connector 40"/>
            <p:cNvCxnSpPr/>
            <p:nvPr/>
          </p:nvCxnSpPr>
          <p:spPr>
            <a:xfrm flipH="1" flipV="1">
              <a:off x="7968600" y="3922560"/>
              <a:ext cx="78732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arrow" w="med"/>
            </a:ln>
          </p:spPr>
        </p:cxnSp>
      </p:grpSp>
      <p:cxnSp>
        <p:nvCxnSpPr>
          <p:cNvPr id="589" name="Elbow Connector 43"/>
          <p:cNvCxnSpPr>
            <a:endCxn id="583" idx="2"/>
          </p:cNvCxnSpPr>
          <p:nvPr/>
        </p:nvCxnSpPr>
        <p:spPr>
          <a:xfrm flipH="1" flipV="1" rot="5400000">
            <a:off x="396000" y="3421800"/>
            <a:ext cx="314388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333333"/>
            </a:solidFill>
            <a:round/>
            <a:tailEnd len="med" type="arrow" w="med"/>
          </a:ln>
        </p:spPr>
      </p:cxnSp>
      <p:cxnSp>
        <p:nvCxnSpPr>
          <p:cNvPr id="590" name="Straight Arrow Connector 49"/>
          <p:cNvCxnSpPr>
            <a:stCxn id="583" idx="3"/>
            <a:endCxn id="582" idx="1"/>
          </p:cNvCxnSpPr>
          <p:nvPr/>
        </p:nvCxnSpPr>
        <p:spPr>
          <a:xfrm>
            <a:off x="4397040" y="2171880"/>
            <a:ext cx="1429560" cy="2160"/>
          </a:xfrm>
          <a:prstGeom prst="straightConnector1">
            <a:avLst/>
          </a:prstGeom>
          <a:ln w="9360">
            <a:solidFill>
              <a:srgbClr val="333333"/>
            </a:solidFill>
            <a:miter/>
            <a:tailEnd len="med" type="arrow" w="med"/>
          </a:ln>
        </p:spPr>
      </p:cxnSp>
      <p:pic>
        <p:nvPicPr>
          <p:cNvPr id="591" name="Picture 50" descr="ida - user32 - 7.PNG"/>
          <p:cNvPicPr/>
          <p:nvPr/>
        </p:nvPicPr>
        <p:blipFill>
          <a:blip r:embed="rId2"/>
          <a:stretch/>
        </p:blipFill>
        <p:spPr>
          <a:xfrm>
            <a:off x="754200" y="3065400"/>
            <a:ext cx="86104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6" dur="1000" fill="hold"/>
                                        <p:tgtEl>
                                          <p:spTgt spid="59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8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6247E-006 -3.36134E-007 L 0.19802 -0.00189 E">
                                      <p:cBhvr>
                                        <p:cTn id="888" dur="1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Part 3: Evolution to 64-bi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Changes from PE to PE32+ format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Changes in the imports rebuilding process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Planned improvements in the near-future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94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0B345B-02DD-4CE1-B65D-ED78FD8DB2E1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Changes from PE to PE32+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All registers extended to QWORDs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EAX -&gt; RAX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ESP -&gt; RSP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New registers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R8X-R15X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All DLLs used must be 64-bit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BaseOfData has disappeared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New calling convention for APIs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98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99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64B7B5-73A8-4F3E-8191-2813915F9B56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Changes in the imports rebuilding process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IAT elements are QWORDs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Pointer to Original First Thunk is a QWORD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ImageBase is a QWORD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Exception Handlers are now stored as structures in the new PE32+ Exception Directory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02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A93EFD-4C02-4430-B6B7-9994095F3076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Planned improvements in the near-future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Resizable window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DLL support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Integrated disassembler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AutoTrace support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Custom tracing plugins support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06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3A7EB8-688F-488C-9954-FD72F6815B72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Part 4: Live 64-bit unpacking sessions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Tools used: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IDA Pro Advanced 64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CHimpREC-64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Example #1: MPRESS 1.07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Simple UPX-like packer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Example #2: Armadillo x64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Standard protection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Only a level beyond minimal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Imports relocation and emulation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10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F3626B-212E-4B8C-96B9-9F532BED351E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pic>
        <p:nvPicPr>
          <p:cNvPr id="612" name="Content Placeholder 5" descr="arma-4.JPG"/>
          <p:cNvPicPr/>
          <p:nvPr/>
        </p:nvPicPr>
        <p:blipFill>
          <a:blip r:embed="rId1"/>
          <a:stretch/>
        </p:blipFill>
        <p:spPr>
          <a:xfrm>
            <a:off x="7040520" y="3780000"/>
            <a:ext cx="20671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68"/>
          <p:cNvSpPr/>
          <p:nvPr/>
        </p:nvSpPr>
        <p:spPr>
          <a:xfrm>
            <a:off x="3540240" y="1351080"/>
            <a:ext cx="28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2800" spc="-1" strike="noStrike">
                <a:solidFill>
                  <a:srgbClr val="333333"/>
                </a:solidFill>
                <a:latin typeface="DejaVu Sans"/>
              </a:rPr>
              <a:t>6 months later...</a:t>
            </a: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289" name="TextBox 69"/>
          <p:cNvSpPr/>
          <p:nvPr/>
        </p:nvSpPr>
        <p:spPr>
          <a:xfrm>
            <a:off x="3611520" y="13510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2800" spc="-1" strike="noStrike">
                <a:solidFill>
                  <a:srgbClr val="333333"/>
                </a:solidFill>
                <a:latin typeface="DejaVu Sans"/>
              </a:rPr>
              <a:t>1 year later...</a:t>
            </a: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290" name="Rectangle 51"/>
          <p:cNvSpPr/>
          <p:nvPr/>
        </p:nvSpPr>
        <p:spPr>
          <a:xfrm>
            <a:off x="2754360" y="4280040"/>
            <a:ext cx="4000320" cy="2786040"/>
          </a:xfrm>
          <a:prstGeom prst="rect">
            <a:avLst/>
          </a:prstGeom>
          <a:solidFill>
            <a:srgbClr val="adadad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291" name="Fußzeilenplatzhalt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292" name="Foliennummernplatzhalt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4DCE2F-751C-404F-A29D-25AE074B37CD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mbria"/>
              </a:rPr>
              <a:t>Why do this now?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294" name="Group 35"/>
          <p:cNvGrpSpPr/>
          <p:nvPr/>
        </p:nvGrpSpPr>
        <p:grpSpPr>
          <a:xfrm>
            <a:off x="4040280" y="5708520"/>
            <a:ext cx="503280" cy="1254240"/>
            <a:chOff x="4040280" y="5708520"/>
            <a:chExt cx="503280" cy="1254240"/>
          </a:xfrm>
        </p:grpSpPr>
        <p:sp>
          <p:nvSpPr>
            <p:cNvPr id="295" name="Freeform 36"/>
            <p:cNvSpPr/>
            <p:nvPr/>
          </p:nvSpPr>
          <p:spPr>
            <a:xfrm>
              <a:off x="4162680" y="5708520"/>
              <a:ext cx="235080" cy="255600"/>
            </a:xfrm>
            <a:prstGeom prst="pie">
              <a:avLst/>
            </a:prstGeom>
            <a:solidFill>
              <a:srgbClr val="e4c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DejaVu Sans"/>
              </a:endParaRPr>
            </a:p>
          </p:txBody>
        </p:sp>
        <p:sp>
          <p:nvSpPr>
            <p:cNvPr id="296" name="Freeform 37"/>
            <p:cNvSpPr/>
            <p:nvPr/>
          </p:nvSpPr>
          <p:spPr>
            <a:xfrm>
              <a:off x="4040280" y="5991480"/>
              <a:ext cx="503280" cy="971280"/>
            </a:xfrm>
            <a:prstGeom prst="pie">
              <a:avLst/>
            </a:prstGeom>
            <a:solidFill>
              <a:srgbClr val="e4c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DejaVu Sans"/>
              </a:endParaRPr>
            </a:p>
          </p:txBody>
        </p:sp>
      </p:grpSp>
      <p:grpSp>
        <p:nvGrpSpPr>
          <p:cNvPr id="297" name="Group 38"/>
          <p:cNvGrpSpPr/>
          <p:nvPr/>
        </p:nvGrpSpPr>
        <p:grpSpPr>
          <a:xfrm>
            <a:off x="4826160" y="5708520"/>
            <a:ext cx="502920" cy="1254240"/>
            <a:chOff x="4826160" y="5708520"/>
            <a:chExt cx="502920" cy="1254240"/>
          </a:xfrm>
        </p:grpSpPr>
        <p:sp>
          <p:nvSpPr>
            <p:cNvPr id="298" name="Freeform 39"/>
            <p:cNvSpPr/>
            <p:nvPr/>
          </p:nvSpPr>
          <p:spPr>
            <a:xfrm>
              <a:off x="4948200" y="5708520"/>
              <a:ext cx="235080" cy="255600"/>
            </a:xfrm>
            <a:prstGeom prst="pie">
              <a:avLst/>
            </a:prstGeom>
            <a:solidFill>
              <a:srgbClr val="255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DejaVu Sans"/>
              </a:endParaRPr>
            </a:p>
          </p:txBody>
        </p:sp>
        <p:sp>
          <p:nvSpPr>
            <p:cNvPr id="299" name="Freeform 40"/>
            <p:cNvSpPr/>
            <p:nvPr/>
          </p:nvSpPr>
          <p:spPr>
            <a:xfrm>
              <a:off x="4826160" y="5991480"/>
              <a:ext cx="502920" cy="971280"/>
            </a:xfrm>
            <a:prstGeom prst="pie">
              <a:avLst/>
            </a:prstGeom>
            <a:solidFill>
              <a:srgbClr val="255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DejaVu Sans"/>
              </a:endParaRPr>
            </a:p>
          </p:txBody>
        </p:sp>
      </p:grpSp>
      <p:sp>
        <p:nvSpPr>
          <p:cNvPr id="300" name="Sun 48"/>
          <p:cNvSpPr/>
          <p:nvPr/>
        </p:nvSpPr>
        <p:spPr>
          <a:xfrm>
            <a:off x="7326360" y="1208160"/>
            <a:ext cx="2754360" cy="257184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01" name="Smiley Face 49"/>
          <p:cNvSpPr/>
          <p:nvPr/>
        </p:nvSpPr>
        <p:spPr>
          <a:xfrm>
            <a:off x="7969320" y="1851120"/>
            <a:ext cx="1428840" cy="128592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02" name="Isosceles Triangle 52"/>
          <p:cNvSpPr/>
          <p:nvPr/>
        </p:nvSpPr>
        <p:spPr>
          <a:xfrm>
            <a:off x="2111400" y="2279520"/>
            <a:ext cx="5429160" cy="200052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03" name="Rectangle 53"/>
          <p:cNvSpPr/>
          <p:nvPr/>
        </p:nvSpPr>
        <p:spPr>
          <a:xfrm>
            <a:off x="3254400" y="4637160"/>
            <a:ext cx="1000080" cy="785880"/>
          </a:xfrm>
          <a:prstGeom prst="rect">
            <a:avLst/>
          </a:prstGeom>
          <a:solidFill>
            <a:srgbClr val="00b8f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04" name="Rectangle 54"/>
          <p:cNvSpPr/>
          <p:nvPr/>
        </p:nvSpPr>
        <p:spPr>
          <a:xfrm>
            <a:off x="5254560" y="4637160"/>
            <a:ext cx="1000080" cy="785880"/>
          </a:xfrm>
          <a:prstGeom prst="rect">
            <a:avLst/>
          </a:prstGeom>
          <a:solidFill>
            <a:srgbClr val="00b8f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05" name="Straight Connector 56"/>
          <p:cNvSpPr/>
          <p:nvPr/>
        </p:nvSpPr>
        <p:spPr>
          <a:xfrm>
            <a:off x="5753880" y="4638600"/>
            <a:ext cx="1800" cy="7858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06" name="Straight Connector 58"/>
          <p:cNvSpPr/>
          <p:nvPr/>
        </p:nvSpPr>
        <p:spPr>
          <a:xfrm flipV="1">
            <a:off x="5254560" y="5030280"/>
            <a:ext cx="1000080" cy="1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07" name="Straight Connector 60"/>
          <p:cNvSpPr/>
          <p:nvPr/>
        </p:nvSpPr>
        <p:spPr>
          <a:xfrm>
            <a:off x="3753000" y="4638600"/>
            <a:ext cx="1440" cy="7858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08" name="Straight Connector 62"/>
          <p:cNvSpPr/>
          <p:nvPr/>
        </p:nvSpPr>
        <p:spPr>
          <a:xfrm flipV="1">
            <a:off x="3254400" y="5030280"/>
            <a:ext cx="1000080" cy="1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09" name="TextBox 67"/>
          <p:cNvSpPr/>
          <p:nvPr/>
        </p:nvSpPr>
        <p:spPr>
          <a:xfrm>
            <a:off x="3611520" y="1351080"/>
            <a:ext cx="271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2800" spc="-1" strike="noStrike">
                <a:solidFill>
                  <a:srgbClr val="333333"/>
                </a:solidFill>
                <a:latin typeface="DejaVu Sans"/>
              </a:rPr>
              <a:t>1 month later...</a:t>
            </a: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10" name="Freeform 47"/>
          <p:cNvSpPr/>
          <p:nvPr/>
        </p:nvSpPr>
        <p:spPr>
          <a:xfrm>
            <a:off x="-674640" y="6708600"/>
            <a:ext cx="11904480" cy="5569200"/>
          </a:xfrm>
          <a:prstGeom prst="pie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11" name="Oval Callout 66"/>
          <p:cNvSpPr/>
          <p:nvPr/>
        </p:nvSpPr>
        <p:spPr>
          <a:xfrm>
            <a:off x="1539720" y="3279600"/>
            <a:ext cx="2857680" cy="1857600"/>
          </a:xfrm>
          <a:prstGeom prst="wedgeEllipseCallout">
            <a:avLst>
              <a:gd name="adj1" fmla="val 39944"/>
              <a:gd name="adj2" fmla="val 76981"/>
            </a:avLst>
          </a:prstGeom>
          <a:solidFill>
            <a:srgbClr val="c9dee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1800" spc="-1" strike="noStrike">
                <a:solidFill>
                  <a:srgbClr val="333333"/>
                </a:solidFill>
                <a:latin typeface="DejaVu Sans"/>
              </a:rPr>
              <a:t>Geez...</a:t>
            </a: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1800" spc="-1" strike="noStrike">
                <a:solidFill>
                  <a:srgbClr val="333333"/>
                </a:solidFill>
                <a:latin typeface="DejaVu Sans"/>
              </a:rPr>
              <a:t>Somebody should be cutting the grass...</a:t>
            </a: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12" name="Oval Callout 65"/>
          <p:cNvSpPr/>
          <p:nvPr/>
        </p:nvSpPr>
        <p:spPr>
          <a:xfrm>
            <a:off x="4826160" y="3279600"/>
            <a:ext cx="2857320" cy="1857600"/>
          </a:xfrm>
          <a:prstGeom prst="wedgeEllipseCallout">
            <a:avLst>
              <a:gd name="adj1" fmla="val -38171"/>
              <a:gd name="adj2" fmla="val 71912"/>
            </a:avLst>
          </a:prstGeom>
          <a:solidFill>
            <a:srgbClr val="c9dee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1800" spc="-1" strike="noStrike">
                <a:solidFill>
                  <a:srgbClr val="333333"/>
                </a:solidFill>
                <a:latin typeface="DejaVu Sans"/>
              </a:rPr>
              <a:t>Yeah...</a:t>
            </a: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1800" spc="-1" strike="noStrike">
                <a:solidFill>
                  <a:srgbClr val="333333"/>
                </a:solidFill>
                <a:latin typeface="DejaVu Sans"/>
              </a:rPr>
              <a:t>Somebody should really be cutting the grass...</a:t>
            </a: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13" name="Oval Callout 70"/>
          <p:cNvSpPr/>
          <p:nvPr/>
        </p:nvSpPr>
        <p:spPr>
          <a:xfrm>
            <a:off x="1539720" y="3351240"/>
            <a:ext cx="2857680" cy="1857240"/>
          </a:xfrm>
          <a:prstGeom prst="wedgeEllipseCallout">
            <a:avLst>
              <a:gd name="adj1" fmla="val 39944"/>
              <a:gd name="adj2" fmla="val 76981"/>
            </a:avLst>
          </a:prstGeom>
          <a:solidFill>
            <a:srgbClr val="c9dee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1800" spc="-1" strike="noStrike">
                <a:solidFill>
                  <a:srgbClr val="333333"/>
                </a:solidFill>
                <a:latin typeface="DejaVu Sans"/>
              </a:rPr>
              <a:t>Hmph...</a:t>
            </a: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1800" spc="-1" strike="noStrike">
                <a:solidFill>
                  <a:srgbClr val="333333"/>
                </a:solidFill>
                <a:latin typeface="DejaVu Sans"/>
              </a:rPr>
              <a:t>Shmumfmum</a:t>
            </a: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1800" spc="-1" strike="noStrike">
                <a:solidFill>
                  <a:srgbClr val="333333"/>
                </a:solidFill>
                <a:latin typeface="DejaVu Sans"/>
              </a:rPr>
              <a:t>shum pfi fmuffinming fme fmaff...</a:t>
            </a: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14" name="Oval Callout 71"/>
          <p:cNvSpPr/>
          <p:nvPr/>
        </p:nvSpPr>
        <p:spPr>
          <a:xfrm>
            <a:off x="4826160" y="3351240"/>
            <a:ext cx="2857320" cy="1857240"/>
          </a:xfrm>
          <a:prstGeom prst="wedgeEllipseCallout">
            <a:avLst>
              <a:gd name="adj1" fmla="val -38171"/>
              <a:gd name="adj2" fmla="val 71912"/>
            </a:avLst>
          </a:prstGeom>
          <a:solidFill>
            <a:srgbClr val="c9dee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1800" spc="-1" strike="noStrike">
                <a:solidFill>
                  <a:srgbClr val="333333"/>
                </a:solidFill>
                <a:latin typeface="DejaVu Sans"/>
              </a:rPr>
              <a:t>Hmph...</a:t>
            </a: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1800" spc="-1" strike="noStrike">
                <a:solidFill>
                  <a:srgbClr val="333333"/>
                </a:solidFill>
                <a:latin typeface="DejaVu Sans"/>
              </a:rPr>
              <a:t>Smumfmum shum pfifi pfi</a:t>
            </a: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1800" spc="-1" strike="noStrike">
                <a:solidFill>
                  <a:srgbClr val="333333"/>
                </a:solidFill>
                <a:latin typeface="DejaVu Sans"/>
              </a:rPr>
              <a:t>fmuffinming fme fmaff...</a:t>
            </a: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0027E-006 3.52941E-006 L 0.00205 -0.03488 E">
                                      <p:cBhvr>
                                        <p:cTn id="107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5 -0.03488 L 0.00708 -0.06681 E">
                                      <p:cBhvr>
                                        <p:cTn id="127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08 -0.06681 L 0.00409 -0.21282 E">
                                      <p:cBhvr>
                                        <p:cTn id="147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Thanks and Greetz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Thanks to my beta testers from: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ARTeam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Team SnD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Even bigger thanks to: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The audience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ReCon staff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Speakers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CHimpREC will shortly be available from: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2" marL="819000" indent="-377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333333"/>
                </a:solidFill>
                <a:latin typeface="Calibri"/>
              </a:rPr>
              <a:t>IITAC website (http://www.iitac.org)</a:t>
            </a:r>
            <a:endParaRPr b="0" lang="en-US" sz="26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Woodmann’s Collaborative RCE Tool Library (CRCETL)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15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616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FC8702-C405-4173-A0AC-8AC21B23B587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14"/>
          <p:cNvSpPr/>
          <p:nvPr/>
        </p:nvSpPr>
        <p:spPr>
          <a:xfrm>
            <a:off x="112680" y="122400"/>
            <a:ext cx="96076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13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866520" y="2015640"/>
            <a:ext cx="7459560" cy="336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Do you have any questions?</a:t>
            </a:r>
            <a:endParaRPr b="0" lang="en-US" sz="36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Overview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Part 1: Basics of unpacking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Part 2: Making a 32-bit imports rebuilder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Part 3: Evolution to 64-bit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Part 4: 2 Live 64-bit unpacking sessions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17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52DFA5-F4E7-4D0E-8B79-DE7A26B7575D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Part 1 :Basics of unpacking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0480" y="1344240"/>
            <a:ext cx="928188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How simple packers work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General unpacking theory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3100" spc="-1" strike="noStrike">
                <a:solidFill>
                  <a:srgbClr val="333333"/>
                </a:solidFill>
                <a:latin typeface="Calibri"/>
              </a:rPr>
              <a:t>Limitations of ImpREC:</a:t>
            </a: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Bugs with Vista ASLR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  <a:p>
            <a:pPr lvl="1" marL="819000" indent="-31572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900" spc="-1" strike="noStrike">
                <a:solidFill>
                  <a:srgbClr val="333333"/>
                </a:solidFill>
                <a:latin typeface="Calibri"/>
              </a:rPr>
              <a:t>Bugs with Vista x64 SP1 (WoW64)</a:t>
            </a:r>
            <a:endParaRPr b="0" lang="en-US" sz="29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21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A8A8A7-7C3F-44A1-AB6A-5B1FC5410472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ube 27"/>
          <p:cNvSpPr/>
          <p:nvPr/>
        </p:nvSpPr>
        <p:spPr>
          <a:xfrm>
            <a:off x="3468600" y="4422600"/>
            <a:ext cx="3643560" cy="785880"/>
          </a:xfrm>
          <a:prstGeom prst="cube">
            <a:avLst>
              <a:gd name="adj" fmla="val 25000"/>
            </a:avLst>
          </a:prstGeom>
          <a:solidFill>
            <a:srgbClr val="7030a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333333"/>
                </a:solidFill>
                <a:latin typeface="DejaVu Sans"/>
              </a:rPr>
              <a:t>Import Directory</a:t>
            </a:r>
            <a:endParaRPr b="0" lang="en-US" sz="32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24" name="Cube 28"/>
          <p:cNvSpPr/>
          <p:nvPr/>
        </p:nvSpPr>
        <p:spPr>
          <a:xfrm>
            <a:off x="3468600" y="3851280"/>
            <a:ext cx="3643560" cy="785880"/>
          </a:xfrm>
          <a:prstGeom prst="cube">
            <a:avLst>
              <a:gd name="adj" fmla="val 25000"/>
            </a:avLst>
          </a:prstGeom>
          <a:solidFill>
            <a:srgbClr val="7030a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333333"/>
                </a:solidFill>
                <a:latin typeface="DejaVu Sans"/>
              </a:rPr>
              <a:t>Unpacker IAT</a:t>
            </a:r>
            <a:endParaRPr b="0" lang="en-US" sz="32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25" name="Cube 29"/>
          <p:cNvSpPr/>
          <p:nvPr/>
        </p:nvSpPr>
        <p:spPr>
          <a:xfrm>
            <a:off x="3468600" y="3279600"/>
            <a:ext cx="3643560" cy="785880"/>
          </a:xfrm>
          <a:prstGeom prst="cube">
            <a:avLst>
              <a:gd name="adj" fmla="val 25000"/>
            </a:avLst>
          </a:prstGeom>
          <a:solidFill>
            <a:srgbClr val="7030a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333333"/>
                </a:solidFill>
                <a:latin typeface="DejaVu Sans"/>
              </a:rPr>
              <a:t>Unpacker Stub</a:t>
            </a:r>
            <a:endParaRPr b="0" lang="en-US" sz="32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26" name="Cube 10"/>
          <p:cNvSpPr/>
          <p:nvPr/>
        </p:nvSpPr>
        <p:spPr>
          <a:xfrm>
            <a:off x="3468600" y="2708280"/>
            <a:ext cx="3643560" cy="78588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333333"/>
                </a:solidFill>
                <a:latin typeface="DejaVu Sans"/>
              </a:rPr>
              <a:t>Import Directory</a:t>
            </a:r>
            <a:endParaRPr b="0" lang="en-US" sz="32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36320" y="252000"/>
            <a:ext cx="9286920" cy="53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ambria"/>
              </a:rPr>
              <a:t>How simple packers work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20480" y="6137280"/>
            <a:ext cx="9281880" cy="83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29" name="Footer Placeholder 3"/>
          <p:cNvSpPr/>
          <p:nvPr/>
        </p:nvSpPr>
        <p:spPr>
          <a:xfrm>
            <a:off x="911160" y="7280280"/>
            <a:ext cx="8020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ww.IITAC.org</a:t>
            </a:r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0" y="7280280"/>
            <a:ext cx="923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402519-CA89-4B0B-815A-6B5A8148E3D5}" type="slidenum">
              <a:rPr b="0" lang="en-US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31" name="Content Placeholder 2"/>
          <p:cNvSpPr/>
          <p:nvPr/>
        </p:nvSpPr>
        <p:spPr>
          <a:xfrm>
            <a:off x="420840" y="1932120"/>
            <a:ext cx="9281880" cy="56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32" name="Cube 12"/>
          <p:cNvSpPr/>
          <p:nvPr/>
        </p:nvSpPr>
        <p:spPr>
          <a:xfrm>
            <a:off x="3468600" y="2136600"/>
            <a:ext cx="3643560" cy="78588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333333"/>
                </a:solidFill>
                <a:latin typeface="DejaVu Sans"/>
              </a:rPr>
              <a:t>IAT</a:t>
            </a:r>
            <a:endParaRPr b="0" lang="en-US" sz="32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33" name="Cube 8"/>
          <p:cNvSpPr/>
          <p:nvPr/>
        </p:nvSpPr>
        <p:spPr>
          <a:xfrm>
            <a:off x="3468600" y="1565280"/>
            <a:ext cx="3643560" cy="78588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333333"/>
                </a:solidFill>
                <a:latin typeface="DejaVu Sans"/>
              </a:rPr>
              <a:t>Program</a:t>
            </a:r>
            <a:endParaRPr b="0" lang="en-US" sz="32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34" name="Curved Left Arrow 24"/>
          <p:cNvSpPr/>
          <p:nvPr/>
        </p:nvSpPr>
        <p:spPr>
          <a:xfrm flipH="1" rot="10800000">
            <a:off x="7183440" y="2350800"/>
            <a:ext cx="928800" cy="928440"/>
          </a:xfrm>
          <a:custGeom>
            <a:avLst/>
            <a:gdLst>
              <a:gd name="textAreaLeft" fmla="*/ 124200 w 928800"/>
              <a:gd name="textAreaRight" fmla="*/ 804600 w 928800"/>
              <a:gd name="textAreaTop" fmla="*/ 145080 h 928440"/>
              <a:gd name="textAreaBottom" fmla="*/ 66744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026114"/>
                <a:lnTo>
                  <a:pt x="5400" y="21386"/>
                </a:lnTo>
                <a:lnTo>
                  <a:pt x="0" y="16200"/>
                </a:lnTo>
                <a:lnTo>
                  <a:pt x="5400" y="10586"/>
                </a:lnTo>
                <a:lnTo>
                  <a:pt x="5400" y="13286"/>
                </a:lnTo>
                <a:arcTo wR="21600" hR="6750" stAng="3026114" swAng="-2560128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00b8f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35" name="Right Arrow 32"/>
          <p:cNvSpPr/>
          <p:nvPr/>
        </p:nvSpPr>
        <p:spPr>
          <a:xfrm>
            <a:off x="1754280" y="1708200"/>
            <a:ext cx="1643040" cy="714240"/>
          </a:xfrm>
          <a:prstGeom prst="rightArrow">
            <a:avLst>
              <a:gd name="adj1" fmla="val 46231"/>
              <a:gd name="adj2" fmla="val 50012"/>
            </a:avLst>
          </a:prstGeom>
          <a:solidFill>
            <a:srgbClr val="ff000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1800" spc="-1" strike="noStrike">
                <a:solidFill>
                  <a:srgbClr val="333333"/>
                </a:solidFill>
                <a:latin typeface="DejaVu Sans"/>
              </a:rPr>
              <a:t>Entry Point</a:t>
            </a:r>
            <a:endParaRPr b="0" lang="en-US" sz="1800" spc="-1" strike="noStrike">
              <a:solidFill>
                <a:srgbClr val="333333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4c244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45081E-006 6.72269E-007 L 0.00173 0.22689 E">
                                      <p:cBhvr>
                                        <p:cTn id="258" dur="1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itac</dc:creator>
  <dc:description/>
  <dc:language>en-US</dc:language>
  <cp:lastModifiedBy>TiGa</cp:lastModifiedBy>
  <dcterms:modified xsi:type="dcterms:W3CDTF">2008-06-16T19:31:59Z</dcterms:modified>
  <cp:revision>402</cp:revision>
  <dc:subject/>
  <dc:title>Welcome!</dc:title>
</cp:coreProperties>
</file>